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6.wmf" ContentType="image/x-wmf"/>
  <Override PartName="/ppt/media/image11.png" ContentType="image/png"/>
  <Override PartName="/ppt/media/image19.jpeg" ContentType="image/jpeg"/>
  <Override PartName="/ppt/media/image12.jpeg" ContentType="image/jpeg"/>
  <Override PartName="/ppt/media/image5.wmf" ContentType="image/x-wmf"/>
  <Override PartName="/ppt/media/image25.png" ContentType="image/png"/>
  <Override PartName="/ppt/media/image21.png" ContentType="image/png"/>
  <Override PartName="/ppt/media/image3.wmf" ContentType="image/x-wmf"/>
  <Override PartName="/ppt/media/image4.png" ContentType="image/png"/>
  <Override PartName="/ppt/media/image20.png" ContentType="image/png"/>
  <Override PartName="/ppt/media/image2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.png" ContentType="image/png"/>
  <Override PartName="/ppt/media/image13.jpeg" ContentType="image/jpeg"/>
  <Override PartName="/ppt/media/image2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dt" idx="35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sldImg"/>
          </p:nvPr>
        </p:nvSpPr>
        <p:spPr>
          <a:xfrm>
            <a:off x="993600" y="769680"/>
            <a:ext cx="5112000" cy="383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ftr" idx="36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 type="sldNum" idx="37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63F45-2657-4609-9CD5-487C4CCB1958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FA7B9-232E-453E-9167-C1505B7CA945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993600" y="770040"/>
            <a:ext cx="5112000" cy="383364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DF917-945B-4A75-8ADC-12896DF12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68D13-C59F-4832-BFA4-01F72A3CB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4D6259-5386-4457-8F22-BA938D3EF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66DE96-5F15-4AAF-B5FD-403D959FC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90A564-4861-47DE-BBD0-E3511B480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0EF898-B15C-4DD9-A970-13EC1BF37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7763F9-CA9F-40F3-A8A2-3134D6243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E56D45-3F24-4E23-8E68-F8DC0B506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AE74C6-8D85-4624-B06E-0209ED005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DEF711-35B9-4E17-9962-BDC72E355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6D16C3-8010-4E98-97F1-84954E498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B95512-7590-4733-83B5-937FA9B3E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0E13E-49D5-4341-B8C4-649EB052D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B31329-63D0-42E8-93F8-10750DE0B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29812B-C532-42F4-9959-176DEEB9E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DE8206-F409-4557-AFA6-A8855322C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E1DAFC-367F-4D03-A746-2A3AA685B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66F020-AF54-41FE-870C-847383419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D765F2-E131-49F7-A252-ABDB16E29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3B3B2E-67E3-406A-AB2B-056B26A81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A82352-A489-4527-AA1B-C0C4D7CCE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A4CE4D-A820-4C2F-A999-042E89445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D39602-42CC-492E-8C94-5070DBF78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33A4B-C948-4BED-BAAD-B92AA8CF3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4102F2-C1B3-4084-9D1B-FC72893F3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982E62-88E5-4017-BA4F-A2C2B9CCF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EFDF3E-EE45-4B48-AD58-66A751970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9FDE61-FA44-429E-BC84-49DB85478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EC9FB2-2970-45F4-8610-FAEB9E07C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6B30BA-B528-46CD-98C8-EF4A176E1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DD41AC-09E7-4E92-91DA-C2C2D10F0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365818-2830-4A8B-B9CA-D2860EB9C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5218DF-0D2D-40CE-8E5A-C51069308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C20BF8-20BB-408F-A510-078EA151D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B4B3C7-7171-4ECA-8D18-2EDA30EFC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1A8505-F208-48A0-B0D4-4EEE483CC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6DD1F1-C08D-4558-A66A-0757886CF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A512DC-3170-455F-8DCC-6D986E28E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304BA6-4D8F-4A52-A2CF-C07C2B99F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42FCBF-9E72-4CF5-A281-CF54E693D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1E4C91-D0E3-4A8A-842D-EED905F61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07A9DB-DD55-418A-BBC4-E077BB729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31F7F2-298B-4D88-8358-448157652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699EA9-9731-43D2-AC73-B0DB9C52F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F48D91-47DA-4138-B657-F267D5160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16B4D5-DEDB-4668-96F6-A122AA827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43AD91-F33A-414F-AE0A-57FB6186C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FACCA1-5792-4BEF-8F27-EA3D837ED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4F217E-FDC4-4813-A590-283B50010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08CE4-239D-48CC-B4A6-DDB413744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55CB5-B242-4C9E-8A81-2DE1CB6E9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D1353-276E-4457-B8AC-8C1D1FF5C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05244-98E4-49D0-853A-95D72F098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A58CD-2F77-45A9-9550-0402DF958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3C5B9-2C7E-46CC-AB6A-C45EBF988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D72D5-8C73-4CCA-9C26-CDF5593D0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40D7B-F1BC-429F-BECE-4FE7DCCC8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A3EFB-E9E6-477C-9662-FA8145BDF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7C947-EF2F-4A6B-AACE-F4A9C99EF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90661-9374-40E9-9456-BBF13E5F6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ECC63-64F5-4A91-85A4-F7ED47EE1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D6487-946E-4F00-B539-8F7D5B06E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D2D19-D6AB-4ED8-859E-4E6439644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679B6-603C-41BD-8EF4-BBF78A38D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14B86-B6E0-4C48-A36B-0F68FEF24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9A77B-06B3-48ED-8791-6E1E4BF0E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4FC6C-5FD2-4C86-9426-BFF8C7440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776F6-D4B3-4DA1-9281-8BBEEF12B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8C69D-CFAD-49D0-8E57-0AB4D6127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DAEF7-F0FD-4241-A01F-D5931CEE6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A2CFD-E9EF-4B46-9358-8A0C8F24D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A0962-6E91-4663-8EC0-C1468D63D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EF212-1AE6-46CA-98AE-D93B4542D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A3F08-FEB4-4194-90E7-51548572B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97E39-5E9C-40B3-8E35-166E1C948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0B1AB-8A27-4150-BF15-473641D58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85E5C-9818-4419-89FC-4BFE043FB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539E5-EECD-4CF3-9878-52E324479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B17A5-66BD-405A-974D-4E3B31E5E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64931-BE56-4ACE-85F6-17FA84BCC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BA8F3-CE2E-459E-909F-827342437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D6BB5-74A1-4F7B-8EC9-5962CDF0A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C304F-2AE7-41BD-BDB0-8BA1D6090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82D80-2405-4D6B-ADFC-68B525AF5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246DFE-EEF5-41F5-9E33-B6507875F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9E540-32A8-4091-9A1C-4C7C743F7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FF932D-F498-4F81-B812-DACFA3568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E9FCA-D353-471E-B457-C0AB69B5C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DE52C-11C5-4E3B-A24C-9A42F310A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6FB10-0399-4F6D-8267-9F5F885F0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17F7C2-E317-4601-83E2-F26CB8EA4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CACA20-530E-432F-88EE-AA24CCD7E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FECF7F-B792-435E-938E-333AB1E57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023037-6F47-447E-8B69-6108BD646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BE0E03-CAEF-4647-8548-4EA9D24FA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0975A0-6E04-495C-896E-137D8139C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52DE25-AF69-47C5-8C44-2D6DF4155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0840FD-6A7F-4BE5-9229-D085D22E8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46BBD3-4636-4CC4-A234-5E9273CCB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33794-4FB6-423B-89CF-A9A5AB7D1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087F62-E3CD-4DE6-A048-6E670EB19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E6F2BC-4262-4992-B05D-E575DCC83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406DD3-A038-4448-B1B0-B42EB4E7E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5672FF-CD03-4136-9FDA-A93E0E6CA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BAD180-A097-4D48-97E5-A3DAF5CB1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5B7F5E-824D-4D93-8764-3AD333D2C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592767-F813-46EA-9E6A-E25326644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971D4E-7201-4B5C-884C-9648ABCE4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1DA217-08B8-404E-A937-5830D449F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6C038B-5356-4229-A705-1227AA862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6C73C-AABB-49CB-BAD1-0E6E4F770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A0269B-BCDE-40C5-82C0-2CF28A9B8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7BD16D-F9A9-4633-BE0F-03ABF2FD0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DF0FB0-3514-4EA1-8EAD-1798FF4E7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EAE443-81D7-4F19-83D4-D7240A744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C123AB-8D1F-47C7-B7A7-C9C444C8A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8BCD52-66C2-4F2C-82AE-74490DB46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80FEB4-BAE0-4E6F-AD99-4D0CCA3EC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972E3E-C78C-467A-9663-C95F5961C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D63202-F703-43F8-8C4F-B4AE887DB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CD6070-02F4-4134-A28B-ADB887F3C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F267B-C9CD-4735-8FB8-C0542C10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EC7D28-B17B-4011-8ECB-24A1791F0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9A2F79-A435-413E-B561-64313ADE0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4FBB78-196B-4D40-936E-4D952C8A2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650F2E-499C-475C-94F2-F2E54B8BA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B212D1-4922-44BF-B62E-BDFB0C519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E1210F-9D64-4C18-B10D-69BA6A569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4BDCC5-E7D6-4AB5-8E0A-69D94538D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4C95BD-4BB8-4523-ACB0-045FC5955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4A757C-9E6A-4877-B338-B8514F7D0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BC998A-1016-4437-B251-EC018466D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54F7D-ADBA-4B93-8794-2DA506B9AF02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7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8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9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ftr" idx="3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31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432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433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34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435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 type="dt" idx="26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 type="sldNum" idx="27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3F82A-04B2-4D72-84A9-840209536CB9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 type="ftr" idx="28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78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79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480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481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82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483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29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sldNum" idx="30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5DF8F-8DF6-4626-A2F5-E3D0D5609A98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ftr" idx="31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27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528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529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30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531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dt" idx="32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 type="sldNum" idx="33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371F8-708E-4384-909D-D061A5414CCF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 type="ftr" idx="34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156600" cy="69022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4952880" y="685800"/>
            <a:ext cx="335304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České vysoké učení technické</a:t>
            </a:r>
            <a:endParaRPr b="0" lang="en-US" sz="1800" spc="-1" strike="noStrike">
              <a:solidFill>
                <a:srgbClr val="000000"/>
              </a:solidFill>
              <a:latin typeface="Arial CE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 Praze</a:t>
            </a:r>
            <a:endParaRPr b="0" lang="en-US" sz="18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4"/>
          <a:stretch/>
        </p:blipFill>
        <p:spPr>
          <a:xfrm>
            <a:off x="8305920" y="722160"/>
            <a:ext cx="774720" cy="586080"/>
          </a:xfrm>
          <a:prstGeom prst="rect">
            <a:avLst/>
          </a:prstGeom>
          <a:ln w="0">
            <a:noFill/>
          </a:ln>
        </p:spPr>
      </p:pic>
      <p:sp>
        <p:nvSpPr>
          <p:cNvPr id="51" name="Line 8"/>
          <p:cNvSpPr/>
          <p:nvPr/>
        </p:nvSpPr>
        <p:spPr>
          <a:xfrm>
            <a:off x="4572000" y="685800"/>
            <a:ext cx="0" cy="624852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4876920" y="1693800"/>
            <a:ext cx="4267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831a4"/>
                </a:solidFill>
                <a:latin typeface="Arial"/>
              </a:rPr>
              <a:t>Fakulta dopravní  </a:t>
            </a:r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4876920" y="2421000"/>
            <a:ext cx="426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831a4"/>
                </a:solidFill>
                <a:latin typeface="Arial"/>
              </a:rPr>
              <a:t>Ústav řídicí techniky a telematiky</a:t>
            </a:r>
            <a:r>
              <a:rPr b="1" lang="cs-CZ" sz="1800" spc="-1" strike="noStrike">
                <a:solidFill>
                  <a:srgbClr val="0831a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876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95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96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97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98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99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5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E4625-CC05-4DF7-8AB0-241ECC54CBEB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7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43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144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145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46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147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8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sldNum" idx="9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85436-BF7F-4933-B96C-84E313795155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ftr" idx="10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91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192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193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94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195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11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sldNum" idx="12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C9A03-91BA-4686-8D26-5F172F34BCA8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3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39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240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241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42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243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4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sldNum" idx="15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C59EF-0E02-453A-8052-F07AFFC7F459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ftr" idx="16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86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87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288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289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90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291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7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sldNum" idx="18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3CC08-7B37-4814-80E2-720627C20A8B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ftr" idx="19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34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35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336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337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38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339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20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sldNum" idx="21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92ABA-A29E-43F4-B21B-429EDF3D59F7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ftr" idx="22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82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83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384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385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86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387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3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sldNum" idx="24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D5FCA-FEEE-483E-94FA-899E44C29955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ftr" idx="25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03640" y="3284640"/>
            <a:ext cx="3600720" cy="133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831a4"/>
                </a:solidFill>
                <a:latin typeface="Arial CE"/>
              </a:rPr>
              <a:t>Navigační a identifikační systém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TextovéPole 3"/>
          <p:cNvSpPr/>
          <p:nvPr/>
        </p:nvSpPr>
        <p:spPr>
          <a:xfrm>
            <a:off x="5000760" y="5214960"/>
            <a:ext cx="300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 CE"/>
              </a:rPr>
              <a:t>Petr Bureš</a:t>
            </a:r>
            <a:endParaRPr b="0" lang="en-US" sz="2800" spc="-1" strike="noStrike">
              <a:solidFill>
                <a:srgbClr val="000000"/>
              </a:solidFill>
              <a:latin typeface="Arial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GNSS - Satelitní systémy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/5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v oblasti přepravy nebezpečných náklad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rganizace, sledování, plánování a záchranné práce, propojení na další informační systé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630" name="Picture 3" descr="naklady5%20copy3"/>
          <p:cNvPicPr/>
          <p:nvPr/>
        </p:nvPicPr>
        <p:blipFill>
          <a:blip r:embed="rId1"/>
          <a:stretch/>
        </p:blipFill>
        <p:spPr>
          <a:xfrm>
            <a:off x="5429160" y="3857760"/>
            <a:ext cx="3375000" cy="2028600"/>
          </a:xfrm>
          <a:prstGeom prst="rect">
            <a:avLst/>
          </a:prstGeom>
          <a:ln w="0">
            <a:noFill/>
          </a:ln>
        </p:spPr>
      </p:pic>
      <p:sp>
        <p:nvSpPr>
          <p:cNvPr id="631" name="Text Box 9"/>
          <p:cNvSpPr/>
          <p:nvPr/>
        </p:nvSpPr>
        <p:spPr>
          <a:xfrm>
            <a:off x="3643200" y="3681360"/>
            <a:ext cx="3873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632" name="Picture 10" descr="IMG_0513"/>
          <p:cNvPicPr/>
          <p:nvPr/>
        </p:nvPicPr>
        <p:blipFill>
          <a:blip r:embed="rId2"/>
          <a:stretch/>
        </p:blipFill>
        <p:spPr>
          <a:xfrm>
            <a:off x="1785960" y="3500280"/>
            <a:ext cx="3267000" cy="2438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3" name="Object 6"/>
          <p:cNvGraphicFramePr/>
          <p:nvPr/>
        </p:nvGraphicFramePr>
        <p:xfrm>
          <a:off x="4786200" y="4429080"/>
          <a:ext cx="1047960" cy="106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6200" y="4429080"/>
                    <a:ext cx="104796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GNSS - Satelitní systémy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/5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v oblasti sledování a řízení pohybu prostřednictvím GN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W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ledován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hybu po letištní ploše, propojení s řídícím centrem, výběr komunikačního prostředí, zabezpečení, testování, at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638" name="Picture 2" descr="image010"/>
          <p:cNvPicPr/>
          <p:nvPr/>
        </p:nvPicPr>
        <p:blipFill>
          <a:blip r:embed="rId1"/>
          <a:stretch/>
        </p:blipFill>
        <p:spPr>
          <a:xfrm>
            <a:off x="1857240" y="3929040"/>
            <a:ext cx="3159360" cy="214308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3" descr=""/>
          <p:cNvPicPr/>
          <p:nvPr/>
        </p:nvPicPr>
        <p:blipFill>
          <a:blip r:embed="rId2"/>
          <a:stretch/>
        </p:blipFill>
        <p:spPr>
          <a:xfrm>
            <a:off x="5715000" y="3857760"/>
            <a:ext cx="17146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Zástupný symbol pro zápatí 5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bsah Prezent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2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pojení ústavu d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ystémy dynamické navigac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atelitní systémy elektronického mýtného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ystémy pro sledování přepravy nebezpečných náklad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p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ákladní informace o projekte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stav se podílí na projektech v rámci laboratoře e-i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udentské projek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1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3 tematicky zaměřené projekty (navigace, dopravní informace a identifikac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zkumné projek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1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 projekty VaV MD ČR (dopravní informace, monitorování D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1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 projekty TP MPO ČR (identifikace, telematická jednotk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TTI - Dopravní informace (1/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popisu dopravních inform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ormáty a struktura protokolů DATEX2, TMC, TPEG, at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591" name="Picture 2" descr=""/>
          <p:cNvPicPr/>
          <p:nvPr/>
        </p:nvPicPr>
        <p:blipFill>
          <a:blip r:embed="rId1"/>
          <a:stretch/>
        </p:blipFill>
        <p:spPr>
          <a:xfrm>
            <a:off x="5613480" y="2786040"/>
            <a:ext cx="3530520" cy="21049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92" name="Picture 2" descr="bla2"/>
          <p:cNvPicPr/>
          <p:nvPr/>
        </p:nvPicPr>
        <p:blipFill>
          <a:blip r:embed="rId2"/>
          <a:stretch/>
        </p:blipFill>
        <p:spPr>
          <a:xfrm>
            <a:off x="4500720" y="4071960"/>
            <a:ext cx="2207880" cy="21225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93" name="Picture 8" descr="tmcmsg.jpg"/>
          <p:cNvPicPr/>
          <p:nvPr/>
        </p:nvPicPr>
        <p:blipFill>
          <a:blip r:embed="rId3"/>
          <a:stretch/>
        </p:blipFill>
        <p:spPr>
          <a:xfrm>
            <a:off x="1500120" y="2786040"/>
            <a:ext cx="3500640" cy="26305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 txBox="1"/>
          <p:nvPr/>
        </p:nvSpPr>
        <p:spPr>
          <a:xfrm>
            <a:off x="1428480" y="857160"/>
            <a:ext cx="739116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v oblasti lokalizace dopravních informac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tický, dynamický popis 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azba DI do mapového podkla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TTI - Dopravní informace (2/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6" name="Picture 9" descr="lt_stn_link"/>
          <p:cNvPicPr/>
          <p:nvPr/>
        </p:nvPicPr>
        <p:blipFill>
          <a:blip r:embed="rId1"/>
          <a:stretch/>
        </p:blipFill>
        <p:spPr>
          <a:xfrm>
            <a:off x="1643040" y="3286080"/>
            <a:ext cx="3643200" cy="25876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597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598" name="Picture 10" descr=""/>
          <p:cNvPicPr/>
          <p:nvPr/>
        </p:nvPicPr>
        <p:blipFill>
          <a:blip r:embed="rId2"/>
          <a:stretch/>
        </p:blipFill>
        <p:spPr>
          <a:xfrm>
            <a:off x="3786120" y="3214800"/>
            <a:ext cx="4098960" cy="2746440"/>
          </a:xfrm>
          <a:prstGeom prst="rect">
            <a:avLst/>
          </a:prstGeom>
          <a:ln w="0">
            <a:noFill/>
          </a:ln>
        </p:spPr>
      </p:pic>
      <p:grpSp>
        <p:nvGrpSpPr>
          <p:cNvPr id="599" name="Skupina 17"/>
          <p:cNvGrpSpPr/>
          <p:nvPr/>
        </p:nvGrpSpPr>
        <p:grpSpPr>
          <a:xfrm>
            <a:off x="3786120" y="3214800"/>
            <a:ext cx="4006800" cy="2738160"/>
            <a:chOff x="3786120" y="3214800"/>
            <a:chExt cx="4006800" cy="2738160"/>
          </a:xfrm>
        </p:grpSpPr>
        <p:sp>
          <p:nvSpPr>
            <p:cNvPr id="600" name="Obdélník 11"/>
            <p:cNvSpPr/>
            <p:nvPr/>
          </p:nvSpPr>
          <p:spPr>
            <a:xfrm>
              <a:off x="3917880" y="4751280"/>
              <a:ext cx="3583080" cy="1035000"/>
            </a:xfrm>
            <a:prstGeom prst="rect">
              <a:avLst/>
            </a:prstGeom>
            <a:noFill/>
            <a:ln w="25560">
              <a:solidFill>
                <a:srgbClr val="c9dd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grpSp>
          <p:nvGrpSpPr>
            <p:cNvPr id="601" name="Skupina 17"/>
            <p:cNvGrpSpPr/>
            <p:nvPr/>
          </p:nvGrpSpPr>
          <p:grpSpPr>
            <a:xfrm>
              <a:off x="3786120" y="3214800"/>
              <a:ext cx="4006800" cy="2738160"/>
              <a:chOff x="3786120" y="3214800"/>
              <a:chExt cx="4006800" cy="2738160"/>
            </a:xfrm>
          </p:grpSpPr>
          <p:sp>
            <p:nvSpPr>
              <p:cNvPr id="602" name="Obdélník 12"/>
              <p:cNvSpPr/>
              <p:nvPr/>
            </p:nvSpPr>
            <p:spPr>
              <a:xfrm>
                <a:off x="3786120" y="3214800"/>
                <a:ext cx="4006800" cy="1531440"/>
              </a:xfrm>
              <a:prstGeom prst="rect">
                <a:avLst/>
              </a:prstGeom>
              <a:solidFill>
                <a:srgbClr val="cec8b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buClr>
                    <a:srgbClr val="0831a4"/>
                  </a:buClr>
                  <a:buSzPct val="85000"/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603" name="Obdélník 14"/>
              <p:cNvSpPr/>
              <p:nvPr/>
            </p:nvSpPr>
            <p:spPr>
              <a:xfrm>
                <a:off x="3786120" y="4746240"/>
                <a:ext cx="136800" cy="1034280"/>
              </a:xfrm>
              <a:prstGeom prst="rect">
                <a:avLst/>
              </a:prstGeom>
              <a:solidFill>
                <a:srgbClr val="cec8b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buClr>
                    <a:srgbClr val="0831a4"/>
                  </a:buClr>
                  <a:buSzPct val="85000"/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604" name="Obdélník 15"/>
              <p:cNvSpPr/>
              <p:nvPr/>
            </p:nvSpPr>
            <p:spPr>
              <a:xfrm>
                <a:off x="3786120" y="5779800"/>
                <a:ext cx="4006800" cy="173160"/>
              </a:xfrm>
              <a:prstGeom prst="rect">
                <a:avLst/>
              </a:prstGeom>
              <a:solidFill>
                <a:srgbClr val="cec8b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buClr>
                    <a:srgbClr val="0831a4"/>
                  </a:buClr>
                  <a:buSzPct val="85000"/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605" name="Obdélník 16"/>
              <p:cNvSpPr/>
              <p:nvPr/>
            </p:nvSpPr>
            <p:spPr>
              <a:xfrm>
                <a:off x="7512480" y="4746240"/>
                <a:ext cx="277200" cy="1034280"/>
              </a:xfrm>
              <a:prstGeom prst="rect">
                <a:avLst/>
              </a:prstGeom>
              <a:solidFill>
                <a:srgbClr val="cec8b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buClr>
                    <a:srgbClr val="0831a4"/>
                  </a:buClr>
                  <a:buSzPct val="85000"/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</p:grpSp>
      </p:grpSp>
      <p:pic>
        <p:nvPicPr>
          <p:cNvPr id="606" name="Picture 2" descr="aplagora"/>
          <p:cNvPicPr/>
          <p:nvPr/>
        </p:nvPicPr>
        <p:blipFill>
          <a:blip r:embed="rId3"/>
          <a:stretch/>
        </p:blipFill>
        <p:spPr>
          <a:xfrm>
            <a:off x="6072120" y="3429000"/>
            <a:ext cx="2836800" cy="23385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TTI - Dopravní informace (3/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v oblasti vysílání, příjmu a vizualizace dopravních inform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stování přenosových prostřed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stování funkčnosti navig. přístroj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610" name="Obrázek 9" descr="p118_Mio.jpg"/>
          <p:cNvPicPr/>
          <p:nvPr/>
        </p:nvPicPr>
        <p:blipFill>
          <a:blip r:embed="rId1"/>
          <a:stretch/>
        </p:blipFill>
        <p:spPr>
          <a:xfrm>
            <a:off x="5357880" y="4143240"/>
            <a:ext cx="3565440" cy="19908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611" name="Picture 2" descr="P1370210"/>
          <p:cNvPicPr/>
          <p:nvPr/>
        </p:nvPicPr>
        <p:blipFill>
          <a:blip r:embed="rId2"/>
          <a:stretch/>
        </p:blipFill>
        <p:spPr>
          <a:xfrm>
            <a:off x="1428840" y="3714840"/>
            <a:ext cx="3692520" cy="24019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612" name="Picture 3" descr=""/>
          <p:cNvPicPr/>
          <p:nvPr/>
        </p:nvPicPr>
        <p:blipFill>
          <a:blip r:embed="rId3"/>
          <a:srcRect l="0" t="16339" r="0" b="13465"/>
          <a:stretch/>
        </p:blipFill>
        <p:spPr>
          <a:xfrm>
            <a:off x="3714840" y="3214800"/>
            <a:ext cx="3200400" cy="16840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40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GNSS - Satelitní systémy (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5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identifikačních technologi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středky identifik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vorba a zabezpečení identifikátor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efinice telematických aplikac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1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FC, EL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RI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616" name="Picture 5" descr=""/>
          <p:cNvPicPr/>
          <p:nvPr/>
        </p:nvPicPr>
        <p:blipFill>
          <a:blip r:embed="rId1"/>
          <a:stretch/>
        </p:blipFill>
        <p:spPr>
          <a:xfrm>
            <a:off x="5857920" y="3857760"/>
            <a:ext cx="2552760" cy="203832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6" descr=""/>
          <p:cNvPicPr/>
          <p:nvPr/>
        </p:nvPicPr>
        <p:blipFill>
          <a:blip r:embed="rId2"/>
          <a:stretch/>
        </p:blipFill>
        <p:spPr>
          <a:xfrm>
            <a:off x="2071800" y="3929040"/>
            <a:ext cx="342900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GNSS - Satelitní systémy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/5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v oblasti architektury systému mýtné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tický, satelitní systém, hybridní systé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efinice hybridního systému v Č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vorba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ezinárodních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orem (C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621" name="Picture 5" descr="PC130011"/>
          <p:cNvPicPr/>
          <p:nvPr/>
        </p:nvPicPr>
        <p:blipFill>
          <a:blip r:embed="rId1"/>
          <a:stretch/>
        </p:blipFill>
        <p:spPr>
          <a:xfrm>
            <a:off x="4786200" y="3643200"/>
            <a:ext cx="3929040" cy="24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GNSS - Satelitní systémy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/5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voj universální telematické jednot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efinice funkcí, rozhraní a přenosových prostřed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voj prototyp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625" name="Picture 5" descr="architecture"/>
          <p:cNvPicPr/>
          <p:nvPr/>
        </p:nvPicPr>
        <p:blipFill>
          <a:blip r:embed="rId1"/>
          <a:stretch/>
        </p:blipFill>
        <p:spPr>
          <a:xfrm>
            <a:off x="4714920" y="3857760"/>
            <a:ext cx="4178160" cy="182376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9" descr=""/>
          <p:cNvPicPr/>
          <p:nvPr/>
        </p:nvPicPr>
        <p:blipFill>
          <a:blip r:embed="rId2"/>
          <a:stretch/>
        </p:blipFill>
        <p:spPr>
          <a:xfrm>
            <a:off x="1571760" y="4429080"/>
            <a:ext cx="2928960" cy="13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9T01:12:06Z</dcterms:created>
  <dc:creator>jakub</dc:creator>
  <dc:description/>
  <dc:language>en-US</dc:language>
  <cp:lastModifiedBy>Pavel Hrubeš</cp:lastModifiedBy>
  <dcterms:modified xsi:type="dcterms:W3CDTF">2009-05-13T07:50:00Z</dcterms:modified>
  <cp:revision>136</cp:revision>
  <dc:subject/>
  <dc:title>Work Package 6</dc:title>
</cp:coreProperties>
</file>