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7C2F-BE77-4EFD-8AF6-4BFB40FDAF6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670D-A543-44D9-A3CF-059284CAB73D}" type="slidenum">
              <a:rPr b="1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5529-2E7F-4BCD-94DE-EAF3CF65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E498-DB77-4CE3-8095-C6863EC8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EF03-B3DA-4049-B5A1-BC811A6F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1927-BECF-4C2C-8D91-47D798EEB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3E08-9EEA-49A9-B11E-1C9A6D81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8038-4776-4B05-9B5B-B19D6233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4CB1-ED11-456E-9926-DB286ECD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7AB5-0DDE-4FDB-8F8E-26FCA786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DB9B-6F3A-4C6C-A672-88A28EE5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441A-D3A4-40DD-8EA5-2096A595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59FB-75E0-4EFA-A626-7CC7ACDD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2BF0-14C1-4762-BD6C-B03ED839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230F-EE29-47D0-B6FB-734758E8BF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Ústav řídi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560" y="3809880"/>
            <a:ext cx="4267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Telematické aplik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876560" y="53337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a3d7a"/>
                </a:solidFill>
                <a:latin typeface="Arial"/>
              </a:rPr>
              <a:t>Ing. Zuzana Bělin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357200" y="1143000"/>
          <a:ext cx="7696440" cy="3986280"/>
        </p:xfrm>
        <a:graphic>
          <a:graphicData uri="http://schemas.openxmlformats.org/drawingml/2006/table">
            <a:tbl>
              <a:tblPr/>
              <a:tblGrid>
                <a:gridCol w="1668600"/>
                <a:gridCol w="1508040"/>
                <a:gridCol w="1509840"/>
                <a:gridCol w="1503360"/>
                <a:gridCol w="150660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Parametr/Grafikon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Komerční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rvalový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Taktový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grální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Přes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5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Spolehliv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Dostup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Kontinuit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2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grit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Bezpeč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andardizační proces 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Object 2"/>
          <p:cNvGraphicFramePr/>
          <p:nvPr/>
        </p:nvGraphicFramePr>
        <p:xfrm>
          <a:off x="1488960" y="928800"/>
          <a:ext cx="7497720" cy="52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8960" y="928800"/>
                    <a:ext cx="749772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lexní analýza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y systémových mod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válená národní metodika tvorby  architektury dopravní telema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 a legislativa rozvo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otná informační bá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ové para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konom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ŮRAZ NA SYSTÉMOVÝ PŘÍSTUP ŘEŠENÍ V APLIKACI DOPRAVNÍ TELEMATI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praceuPC"/>
          <p:cNvPicPr/>
          <p:nvPr/>
        </p:nvPicPr>
        <p:blipFill>
          <a:blip r:embed="rId1"/>
          <a:stretch/>
        </p:blipFill>
        <p:spPr>
          <a:xfrm>
            <a:off x="5929200" y="4152960"/>
            <a:ext cx="321480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udie, analýzy a rešerše aktuálního stavu poznání v ČR a zahranič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adenstv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ový návrh architekt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procesních mod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datových modelů, rozhra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efinice telema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57200" y="819000"/>
            <a:ext cx="7391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ac164"/>
                </a:solidFill>
                <a:latin typeface="Arial"/>
              </a:rPr>
              <a:t>Telemati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systémově inženýrský obor, zabývající se tvorbou a účelným využitím informačního prostředí pro homeostatické procesy (kompenzace rušivých vlivů pro zachování silných procesů dle definovaných kritérií, např. komfort, ekonomika, atd.) územních celků až po globální síťová odvětv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Zástupný symbol pro zápatí 5"/>
          <p:cNvSpPr/>
          <p:nvPr/>
        </p:nvSpPr>
        <p:spPr>
          <a:xfrm>
            <a:off x="1547640" y="6408720"/>
            <a:ext cx="662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Inteligentní dopravní systémy – Dopravní telematika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Zástupný symbol pro číslo snímku 6"/>
          <p:cNvSpPr/>
          <p:nvPr/>
        </p:nvSpPr>
        <p:spPr>
          <a:xfrm>
            <a:off x="8342280" y="6481800"/>
            <a:ext cx="801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05D6-8C49-431B-9E2A-28E3BA9BA7F9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1405080" y="2205000"/>
            <a:ext cx="7667640" cy="4103640"/>
          </a:xfrm>
          <a:prstGeom prst="rect">
            <a:avLst/>
          </a:prstGeom>
          <a:solidFill>
            <a:srgbClr val="0000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726000" y="4292640"/>
            <a:ext cx="3024000" cy="2136600"/>
          </a:xfrm>
          <a:prstGeom prst="rect">
            <a:avLst/>
          </a:prstGeom>
          <a:solidFill>
            <a:srgbClr val="61c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4702320" y="3213000"/>
            <a:ext cx="1081080" cy="1079640"/>
            <a:chOff x="4702320" y="3213000"/>
            <a:chExt cx="1081080" cy="1079640"/>
          </a:xfrm>
        </p:grpSpPr>
        <p:sp>
          <p:nvSpPr>
            <p:cNvPr id="113" name="Line 5"/>
            <p:cNvSpPr/>
            <p:nvPr/>
          </p:nvSpPr>
          <p:spPr>
            <a:xfrm>
              <a:off x="4702320" y="3213000"/>
              <a:ext cx="1081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6"/>
            <p:cNvSpPr/>
            <p:nvPr/>
          </p:nvSpPr>
          <p:spPr>
            <a:xfrm>
              <a:off x="5221440" y="3213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Rectangle 9"/>
          <p:cNvSpPr/>
          <p:nvPr/>
        </p:nvSpPr>
        <p:spPr>
          <a:xfrm>
            <a:off x="1822320" y="2565360"/>
            <a:ext cx="2880000" cy="1468440"/>
          </a:xfrm>
          <a:prstGeom prst="rect">
            <a:avLst/>
          </a:prstGeom>
          <a:solidFill>
            <a:srgbClr val="ff0f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714680" y="2508120"/>
            <a:ext cx="316368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TELEKOMUNIKA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telekomunikační sítě a protokol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inteligentní telekomunikační prostředí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multifunkční telekomunikační sítě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5767560" y="2565360"/>
            <a:ext cx="2879640" cy="1468440"/>
          </a:xfrm>
          <a:prstGeom prst="rect">
            <a:avLst/>
          </a:prstGeom>
          <a:solidFill>
            <a:srgbClr val="fd92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5710320" y="2508120"/>
            <a:ext cx="302400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INFORMATIK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oftwarové inženýrství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databázové systémy a technologi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zpracování da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optimalizace datových toků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3683160" y="4292640"/>
            <a:ext cx="309564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TELEMATIK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distribuované databáz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redukce informací, znalostní společno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telematické služby a protokol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řízení sítě a telematických služeb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organizace, architektura, číselní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" descr="colsys_Stránka_2"/>
          <p:cNvPicPr/>
          <p:nvPr/>
        </p:nvPicPr>
        <p:blipFill>
          <a:blip r:embed="rId1"/>
          <a:stretch/>
        </p:blipFill>
        <p:spPr>
          <a:xfrm>
            <a:off x="1447920" y="1457280"/>
            <a:ext cx="73911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nalýzy reálných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ložení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Skupina 34"/>
          <p:cNvGrpSpPr/>
          <p:nvPr/>
        </p:nvGrpSpPr>
        <p:grpSpPr>
          <a:xfrm>
            <a:off x="1285920" y="2000160"/>
            <a:ext cx="7779960" cy="3331080"/>
            <a:chOff x="1285920" y="2000160"/>
            <a:chExt cx="7779960" cy="3331080"/>
          </a:xfrm>
        </p:grpSpPr>
        <p:graphicFrame>
          <p:nvGraphicFramePr>
            <p:cNvPr id="127" name="Object 2"/>
            <p:cNvGraphicFramePr/>
            <p:nvPr/>
          </p:nvGraphicFramePr>
          <p:xfrm>
            <a:off x="1450440" y="2182680"/>
            <a:ext cx="4356360" cy="27381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50440" y="2182680"/>
                      <a:ext cx="4356360" cy="273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9" name="Text Box 7"/>
            <p:cNvSpPr/>
            <p:nvPr/>
          </p:nvSpPr>
          <p:spPr>
            <a:xfrm>
              <a:off x="1591200" y="2061000"/>
              <a:ext cx="28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831a4"/>
                  </a:solidFill>
                  <a:latin typeface="Tahoma"/>
                </a:rPr>
                <a:t>Nesystémový přístu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Text Box 8"/>
            <p:cNvSpPr/>
            <p:nvPr/>
          </p:nvSpPr>
          <p:spPr>
            <a:xfrm>
              <a:off x="5946480" y="2000160"/>
              <a:ext cx="253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831a4"/>
                  </a:solidFill>
                  <a:latin typeface="Tahoma"/>
                </a:rPr>
                <a:t>Systémový přístu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31" name="Object 3"/>
            <p:cNvGraphicFramePr/>
            <p:nvPr/>
          </p:nvGraphicFramePr>
          <p:xfrm>
            <a:off x="5522760" y="2547720"/>
            <a:ext cx="3473640" cy="23839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32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22760" y="2547720"/>
                      <a:ext cx="3473640" cy="238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Text Box 11"/>
            <p:cNvSpPr/>
            <p:nvPr/>
          </p:nvSpPr>
          <p:spPr>
            <a:xfrm>
              <a:off x="5706360" y="4317840"/>
              <a:ext cx="135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Zpracování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64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Text Box 12"/>
            <p:cNvSpPr/>
            <p:nvPr/>
          </p:nvSpPr>
          <p:spPr>
            <a:xfrm>
              <a:off x="7850520" y="41353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Přenos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20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Text Box 13"/>
            <p:cNvSpPr/>
            <p:nvPr/>
          </p:nvSpPr>
          <p:spPr>
            <a:xfrm>
              <a:off x="7850520" y="26017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Sběr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16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15"/>
            <p:cNvSpPr/>
            <p:nvPr/>
          </p:nvSpPr>
          <p:spPr>
            <a:xfrm>
              <a:off x="1667160" y="4507200"/>
              <a:ext cx="135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Zpracování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36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16"/>
            <p:cNvSpPr/>
            <p:nvPr/>
          </p:nvSpPr>
          <p:spPr>
            <a:xfrm>
              <a:off x="4070520" y="242856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Přenos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49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1285920" y="27871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Sběr</a:t>
              </a: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15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izika nesystémových přístupů a jejich vl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ence množiny organizačních a legislativních zás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patně zadávací podmínky výběrových 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sledkem jsou vyšší realizač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č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stémové paramet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tná informační bá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ušení autorských práv – rozhra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ence množiny technických a technologických zás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ušení interoperability v národním a evropském kontex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sledkem jsou vyšší realizač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č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tnost tvorby rozhra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zba na JSDI, e. coll, nebezpečné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dílení informací - integr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Rizika a jejich vliv do ekonom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ušení zásad systémového přístupu lze očekávat  ekonomické ztráty:  (stejná úroveň služe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zační a legislativní = vzrůst nákladů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o 250-400%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oblast – integrita přenosu informací = vzrůst nákladů o 300-4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chnická – sdílení informací v architektuře = vzrůst nákladů o 350-4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57200" y="274680"/>
            <a:ext cx="575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tinuita (spojitos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 plnit požadované funkce/procesy bez (neplánovaného) přeru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ntegri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 včasně a bezchybně informovat uživatele, že systém nemůže být použit pro operace daného postu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ezpečn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, že v případě vzniku poruchy nedojde k poškození systému nebo k materiálním ztrátám či ztrátám na lidských živote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es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hody mezi měřenou a definovanou hodnotou parametru/procesu/funk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polehlivos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opnost systému plnit požadované funkce bez přerušení během daného postupu v průběhu definovaného časového interval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stup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opnost systému plnit požadované funkce při inicializaci (spuštění) systému/procesu dle daného postup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3:10:03Z</dcterms:created>
  <dc:creator>Vladimír Faltus</dc:creator>
  <dc:description/>
  <dc:language>en-US</dc:language>
  <cp:lastModifiedBy>Pavel Hrubeš</cp:lastModifiedBy>
  <dcterms:modified xsi:type="dcterms:W3CDTF">2009-05-13T12:51:03Z</dcterms:modified>
  <cp:revision>68</cp:revision>
  <dc:subject/>
  <dc:title>K620 - služby v oblasti Řízení dopravy</dc:title>
</cp:coreProperties>
</file>