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4443-9AA7-483E-94F6-FC98F913C3B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F7F-3724-4D9A-9BFC-4D0FDC225AE4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BA3-7DB1-47D6-8662-F0248A97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A0C-656D-4250-80FF-734E888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A13-1CF9-4B17-A176-6277260C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C34-CF2F-482E-B94E-087E9C0D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BD4-D631-4AAE-A35A-A9914D5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D46-C3DE-46C1-ACF9-2E5D2B1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731-0F4D-4927-81F4-EB68C27D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FDA-CC7A-489E-8F79-8036F0B8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6A3-20A2-48AD-A832-842AFD9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B8A-56D5-4D14-9FD6-5D5F436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895-1768-45C5-B3FC-842EADB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B24-B9D0-4526-9FEA-A64B7378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75B-D4F6-4CB8-9AFF-57FF70FAD6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380988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Telematické aplik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53337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a3d7a"/>
                </a:solidFill>
                <a:latin typeface="Arial"/>
              </a:rPr>
              <a:t>Ing. Zuzana Běl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57200" y="1143000"/>
          <a:ext cx="7696440" cy="3986280"/>
        </p:xfrm>
        <a:graphic>
          <a:graphicData uri="http://schemas.openxmlformats.org/drawingml/2006/table">
            <a:tbl>
              <a:tblPr/>
              <a:tblGrid>
                <a:gridCol w="1668600"/>
                <a:gridCol w="1508040"/>
                <a:gridCol w="1509840"/>
                <a:gridCol w="1503360"/>
                <a:gridCol w="150660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arametr/Grafik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merč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rval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Taktový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ální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Přes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5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m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Spolehliv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rok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Dostup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5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99%/1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Kontinu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/1 hodin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Integrit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10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2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Times New Roman"/>
                        </a:rPr>
                        <a:t>Bezpečnost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831a4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andardizační proces 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488960" y="928800"/>
          <a:ext cx="7497720" cy="52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928800"/>
                    <a:ext cx="749772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lexní analýza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y systémový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válená národní metodika tvorby  architektury dopravní tele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 a legislativa rozvo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para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onom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ŮRAZ NA SYSTÉMOVÝ PŘÍSTUP ŘEŠENÍ V APLIKACI DOPRAVNÍ TELEMAT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praceuPC"/>
          <p:cNvPicPr/>
          <p:nvPr/>
        </p:nvPicPr>
        <p:blipFill>
          <a:blip r:embed="rId1"/>
          <a:stretch/>
        </p:blipFill>
        <p:spPr>
          <a:xfrm>
            <a:off x="5929200" y="4152960"/>
            <a:ext cx="32148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udie, analýzy a rešerše aktuálního stavu poznání v ČR a zahran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adenstv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ý návrh architek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procesních mod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 datových modelů,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finice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57200" y="81900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ac164"/>
                </a:solidFill>
                <a:latin typeface="Arial"/>
              </a:rPr>
              <a:t>Telemati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systémově inženýrský obor, zabývající se tvorbou a účelným využitím informačního prostředí pro homeostatické procesy (kompenzace rušivých vlivů pro zachování silných procesů dle definovaných kritérií, např. komfort, ekonomika, atd.) územních celků až po globální síťová odvětv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Zástupný symbol pro zápatí 5"/>
          <p:cNvSpPr/>
          <p:nvPr/>
        </p:nvSpPr>
        <p:spPr>
          <a:xfrm>
            <a:off x="1547640" y="6408720"/>
            <a:ext cx="662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Inteligentní dopravní systémy – Dopravní telematika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Zástupný symbol pro číslo snímku 6"/>
          <p:cNvSpPr/>
          <p:nvPr/>
        </p:nvSpPr>
        <p:spPr>
          <a:xfrm>
            <a:off x="8342280" y="648180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B12-7D52-4044-A451-6F9E5C4ED24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05080" y="2205000"/>
            <a:ext cx="7667640" cy="4103640"/>
          </a:xfrm>
          <a:prstGeom prst="rect">
            <a:avLst/>
          </a:prstGeom>
          <a:solidFill>
            <a:srgbClr val="00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726000" y="4292640"/>
            <a:ext cx="3024000" cy="2136600"/>
          </a:xfrm>
          <a:prstGeom prst="rect">
            <a:avLst/>
          </a:prstGeom>
          <a:solidFill>
            <a:srgbClr val="61c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2320" y="3213000"/>
            <a:ext cx="1081080" cy="1079640"/>
            <a:chOff x="4702320" y="3213000"/>
            <a:chExt cx="1081080" cy="1079640"/>
          </a:xfrm>
        </p:grpSpPr>
        <p:sp>
          <p:nvSpPr>
            <p:cNvPr id="113" name="Line 5"/>
            <p:cNvSpPr/>
            <p:nvPr/>
          </p:nvSpPr>
          <p:spPr>
            <a:xfrm>
              <a:off x="4702320" y="321300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5221440" y="3213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Rectangle 9"/>
          <p:cNvSpPr/>
          <p:nvPr/>
        </p:nvSpPr>
        <p:spPr>
          <a:xfrm>
            <a:off x="1822320" y="2565360"/>
            <a:ext cx="2880000" cy="1468440"/>
          </a:xfrm>
          <a:prstGeom prst="rect">
            <a:avLst/>
          </a:prstGeom>
          <a:solidFill>
            <a:srgbClr val="f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714680" y="2508120"/>
            <a:ext cx="31636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KOMUNIKA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komunikační sítě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inteligentní telekomunikační prostřed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ultifunkční telekomunikační sítě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67560" y="2565360"/>
            <a:ext cx="2879640" cy="1468440"/>
          </a:xfrm>
          <a:prstGeom prst="rect">
            <a:avLst/>
          </a:prstGeom>
          <a:solidFill>
            <a:srgbClr val="fd92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710320" y="2508120"/>
            <a:ext cx="302400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INFOR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oftwarové inženýrství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tabázové systémy a technologi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zpracování d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ptimalizace datových toků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683160" y="4292640"/>
            <a:ext cx="30956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TELEMATIK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istribuované databáz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dukce informací, znalostní společno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telematické služby a protokol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ízení sítě a telematických služe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organizace, architektura, číselní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olsys_Stránka_2"/>
          <p:cNvPicPr/>
          <p:nvPr/>
        </p:nvPicPr>
        <p:blipFill>
          <a:blip r:embed="rId1"/>
          <a:stretch/>
        </p:blipFill>
        <p:spPr>
          <a:xfrm>
            <a:off x="1447920" y="1457280"/>
            <a:ext cx="73911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alýzy reálných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ložení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Skupina 34"/>
          <p:cNvGrpSpPr/>
          <p:nvPr/>
        </p:nvGrpSpPr>
        <p:grpSpPr>
          <a:xfrm>
            <a:off x="1285920" y="2000160"/>
            <a:ext cx="7779960" cy="3331080"/>
            <a:chOff x="1285920" y="2000160"/>
            <a:chExt cx="7779960" cy="3331080"/>
          </a:xfrm>
        </p:grpSpPr>
        <p:graphicFrame>
          <p:nvGraphicFramePr>
            <p:cNvPr id="127" name="Object 2"/>
            <p:cNvGraphicFramePr/>
            <p:nvPr/>
          </p:nvGraphicFramePr>
          <p:xfrm>
            <a:off x="1450440" y="2182680"/>
            <a:ext cx="4356360" cy="2738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50440" y="2182680"/>
                      <a:ext cx="4356360" cy="27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Text Box 7"/>
            <p:cNvSpPr/>
            <p:nvPr/>
          </p:nvSpPr>
          <p:spPr>
            <a:xfrm>
              <a:off x="1591200" y="2061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Ne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5946480" y="2000160"/>
              <a:ext cx="25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831a4"/>
                  </a:solidFill>
                  <a:latin typeface="Tahoma"/>
                </a:rPr>
                <a:t>Systémový přístup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31" name="Object 3"/>
            <p:cNvGraphicFramePr/>
            <p:nvPr/>
          </p:nvGraphicFramePr>
          <p:xfrm>
            <a:off x="5522760" y="2547720"/>
            <a:ext cx="3473640" cy="2383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2760" y="2547720"/>
                      <a:ext cx="3473640" cy="23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11"/>
            <p:cNvSpPr/>
            <p:nvPr/>
          </p:nvSpPr>
          <p:spPr>
            <a:xfrm>
              <a:off x="5706360" y="431784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64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7850520" y="41353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20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7850520" y="26017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667160" y="4507200"/>
              <a:ext cx="135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Zpracování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36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4070520" y="242856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Přeno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49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85920" y="2787120"/>
              <a:ext cx="121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Sběr</a:t>
              </a: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informac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831a4"/>
                  </a:solidFill>
                  <a:latin typeface="Tahoma"/>
                </a:rPr>
                <a:t>15%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izika nesystémových přístupů a jejich vl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organizačních a legislativní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patně zadávací podmínky výběrových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é parame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ná informační 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autorských práv –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ence množiny technických a technologických zás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ušení interoperability v národním a evropském kon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sledkem jsou vyšší realizač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č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st tvorby rozhra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a na JSDI, e. coll, nebezpečné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dílení informací - integ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Rizika a jejich vliv do ekonom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šení zásad systémového přístupu lze očekávat  ekonomické ztráty:  (stejná úroveň služ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a legislativní = vzrůst nákladů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 250-400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oblast – integrita přenosu informací = vzrůst nákladů o 300-4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hnická – sdílení informací v architektuře = vzrůst nákladů o 350-4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57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tinuita (spojitos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plnit požadované funkce/procesy bez (neplánovaného) přeru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gri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 včasně a bezchybně informovat uživatele, že systém nemůže být použit pro operace daného post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ezpeč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6120" indent="-44172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systému, že v případě vzniku poruchy nedojde k poškození systému nebo k materiálním ztrátám či ztrátám na lidských živote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stémové parametry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es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dy mezi měřenou a definovanou hodnotou parametru/procesu/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hliv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bez přerušení během daného postupu v průběhu definovaného časového interva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stup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4120" indent="-40968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hopnost systému plnit požadované funkce při inicializaci (spuštění) systému/procesu dle daného postup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3:10:03Z</dcterms:created>
  <dc:creator>Vladimír Faltus</dc:creator>
  <dc:description/>
  <dc:language>en-US</dc:language>
  <cp:lastModifiedBy>Pavel Hrubeš</cp:lastModifiedBy>
  <dcterms:modified xsi:type="dcterms:W3CDTF">2009-05-13T12:51:03Z</dcterms:modified>
  <cp:revision>68</cp:revision>
  <dc:subject/>
  <dc:title>K620 - služby v oblasti Řízení dopravy</dc:title>
</cp:coreProperties>
</file>