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13.jpeg" ContentType="image/jpe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3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993600" y="769680"/>
            <a:ext cx="5112000" cy="38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3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563A-64D0-48AE-A52A-CF138A5B7D4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895-E4E6-40C6-85E7-55ACA6AE12D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CB6D-1A8C-4D61-B74A-C71E93CC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C529-58F3-48FD-BCE2-4E0F6BE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5324-96C9-4585-9D15-FFF837BE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23728-B88A-4562-A6CF-8DAE81B7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2694C-E1A2-41B8-B9C6-4401D3E1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95D1-31CB-4B0C-9449-3BCD4839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1BA2B-96EE-4B12-B026-4997096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0C3F-0C7E-49ED-BD68-63500B2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F0339-511D-4614-9722-EDCD54AA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0BD7B-DC75-4559-9D71-BB0BC389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42B69-6944-4C09-B205-C9185616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16E84-CBDA-4100-8C61-C2EA396E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3643-3476-4B97-976F-4CCCC933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B199-BE92-4EC4-AB99-C284E877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99FA8-9FB2-4D83-B645-5B5B6AA6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51BA3-EA8C-471C-92C3-746767B9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96A4C-C406-4590-8275-868726E9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4A4B-4679-4E14-9D70-2C95D69C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F50D6-301E-496D-9348-E3DD34E7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46E68-0969-465D-A239-D4DAB7C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FC0A1-31C1-4255-B134-010F634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FD383-4657-42F2-AA21-1548D09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8F9E9-F193-41E8-8CF7-B33EB6F3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46E8-D967-4A25-92E6-73C8D05C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D8D94-7E99-4801-94C2-DF016B68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F03BC-288D-46E6-A11B-22DB0330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4196C-EA71-4363-811B-E6AD0542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1509-7762-4AE6-99AE-F3C002F5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0A2C2-9BE2-45B9-AAC1-04E9A284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B3AF2-798D-4816-A53F-E920666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73EDD-C30B-44FE-94E6-0203A42D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516C0-C2AA-4CF0-B33F-0C8AF70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BE7BD-50C7-4855-976B-8499591B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7E321-9E16-45CD-9DEF-2D5D489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2A601-CBAE-4A5B-AEF2-6B98DBCC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99EFC-0163-465F-A8B6-B01F9C69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5B3BF-DCAD-498F-B43A-5078DB68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9679-28C2-4006-A5C6-39756F8B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561C8-DE8F-4B68-B6E1-72084E5C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04DFF-53FC-4488-AB93-6176DC51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DFD93-B4F2-4477-ABF9-3DD924F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B93C4-023C-4BD9-B6BC-6271388D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0BABA-2858-4AE5-82C6-635978C2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4BFB-4F50-46B7-B7BD-3C637E8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5383D-1B6D-4F4B-9FE5-EF659C0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F514D-3C4A-4456-98E9-BAB72635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1B63D-DB22-4D65-9207-CDDCD83E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66A9B-4DC9-49E9-89C2-03973F87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499AB-89D2-4075-8068-E4E11C37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FBFD-51CF-4491-9189-8E6C0790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0BCE-A703-4A95-9ADD-7FC6E204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E093-90E9-4C7E-A775-4E3DE759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607-F901-47B6-871E-6B9929E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A1C-D21D-4C1B-B512-FA8CEE2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5E8A-C227-46A4-9B0E-500CE1F6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362B-04E4-47DD-A97E-177DE27F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FDEE-8AC3-4D15-85A3-D2B623F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05EC-CD61-409F-A307-69FD107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7FE6-3339-49AB-84E8-B05E725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8C7A-C803-4073-BD61-94B9EF1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9581-C08F-4BD2-A906-5C9E45D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D70B-7FC8-48EC-B74D-5F5E9D50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0D2-C438-4C72-BAFB-72E2C0BA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71FB-743D-4C0A-8638-2BF88B19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80D3-F351-4EFB-BD9D-D5EB332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16F9-4F01-45A3-A1BA-C500A207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4648-3D08-432C-A421-B586B95B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D451-687B-4B78-9E73-C9C9B78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A24E-5B37-43E8-88D0-9A4A6C2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8787-D202-4183-9636-0F1B3649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3F85-07FB-406E-A579-91D8164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89D8-1435-4DE9-9970-73F0331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6C12-EFC0-48DA-9497-B8FBCC9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A796-74F1-447E-8190-FA8D4A17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8A00-621D-42B0-8E71-FC22415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4667-B568-40ED-A180-A90281B4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01BC-5E43-4149-B89F-36544123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CEA0-A647-4BD5-8FA2-357A46BC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C69C-E8DA-4DCD-9DAE-72DB720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E4DD-83D0-4136-B209-1C354E13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E202-1195-497D-AA2C-4C4BD72C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E876-9FF2-4797-A122-CCEF6AFE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3083-89FB-4EC8-BC07-C0D1749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51D6F-82FB-492B-899F-10692F9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5343-244B-4661-A2A1-D38186B7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0797-7CB5-44B3-B81F-F81876B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3D30-A494-4A88-AE8D-BE19471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8BA1-7CCC-46B9-ADCD-90A91CDD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37DE-5163-4E20-B697-1AA7147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376F-BC6A-4DA9-A700-1049E6EC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7524B-D47A-4313-9893-0A8FB565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E83B-B19D-4CFB-A443-47EC2636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06F4-9549-42BC-81B3-23B5F06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E0997-97A7-466E-80B0-CB328568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DCA08-13A2-4F15-B352-0C368787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51CC8-76D5-44BD-BB7F-1593014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7604-9ACE-439B-A7BA-C3B3C0B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D9597-B5DE-489D-A53F-679283DF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896AB-790C-425F-B214-5226328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17D8-A080-432F-80F5-78538B1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BC02-5C29-4ECA-A3DD-6189181F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14D4-DDCE-41DD-9695-CBFB065D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C1E9-EBE6-4BA9-AE70-31FC43AD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B14A-4516-487E-80CB-9946FB55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B3C1-1F2E-4946-9AB9-654C6D69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7C822-8468-4828-85D1-897AEA3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6B06C-2D1E-4C6E-BBCB-6CB44E3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5682-AEEE-4B64-A9E6-90FE818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793E7-1028-4692-A82A-7F49D5B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01D4F-EFC2-48A2-9FEA-6C456FD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4116-CE6B-4FB9-A0BF-E770782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8D36-B8BC-4E13-9C3B-6264A1C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3FFD-DDD7-40BA-B6F7-01A9221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A5B0-EFA2-462B-BDB0-72D09E8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7D6F-F70E-4851-9148-259E0F77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4AA65-6B7F-4479-BACB-3B21F564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0E3E3-CF3A-4E16-BDFF-31248106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6B05-9803-4958-BFB5-DAD5EDE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18D1B-7F3E-4610-96BD-4191D112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0BBB-0E8E-4B6E-A306-19B47FC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74BB-DDCF-4198-8D2F-CD76C81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7696-C94E-47EB-B35C-ED29FDB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FE2C6-38E3-4059-9CFF-5A6F84E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B218-6CCA-4CCA-9D3F-136CE43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E0CA-803F-4C2C-B5A7-198C429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25468-55FF-4880-A84B-ECF30C4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7DABA-1065-4F17-89E0-AD9647F3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0A06-F966-4E7D-B3EB-85CBE875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D7E2-6C80-4D8C-B219-81DDE1DA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ABA07-0767-4A8B-A892-B02A2949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AD6E-6240-47B1-9BA3-1EB39DB1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6FCAF-C354-4D8F-8310-824D67E1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0317-18CF-4BF8-B7D0-419FBE3E79B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3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6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27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1A8-DBE5-4833-957B-AE786EE29F6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ftr" idx="28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48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48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9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30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F77F-C64B-4398-ADD1-5238C144355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1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52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3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2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9127-A25C-47D1-B617-5F3D3278043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56600" cy="6902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4952880" y="685800"/>
            <a:ext cx="33530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 Praze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74720" cy="58608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876920" y="1693800"/>
            <a:ext cx="426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Fakulta dopravní  </a:t>
            </a:r>
            <a:endParaRPr b="0" lang="en-US" sz="2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876920" y="24210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831a4"/>
                </a:solidFill>
                <a:latin typeface="Arial"/>
              </a:rPr>
              <a:t>Ústav řídicí techniky a telematiky</a:t>
            </a: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9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6A6D-39E8-430F-B850-D2FB9F0FA63C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4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8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92E-ED2C-472F-B736-3E8C86E14AC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0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193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195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BE92-D253-4110-A8CE-B7B2201A779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3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41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4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F21B-087E-4C87-B15B-6052F9324D8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6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289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7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D725-9254-413D-B8A5-043AF491302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19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37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39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0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21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C13-1647-4E77-878D-C248B62B95A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2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308240" cy="6337440"/>
          </a:xfrm>
          <a:prstGeom prst="rect">
            <a:avLst/>
          </a:prstGeom>
          <a:ln w="0">
            <a:noFill/>
          </a:ln>
        </p:spPr>
      </p:pic>
      <p:sp>
        <p:nvSpPr>
          <p:cNvPr id="385" name="Line 10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1260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387" name="Picture 13" descr=""/>
          <p:cNvPicPr/>
          <p:nvPr/>
        </p:nvPicPr>
        <p:blipFill>
          <a:blip r:embed="rId4"/>
          <a:stretch/>
        </p:blipFill>
        <p:spPr>
          <a:xfrm>
            <a:off x="7639200" y="6381720"/>
            <a:ext cx="546120" cy="417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3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4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1BD-ED5F-48E6-9F74-EE6CC5415B4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5"/>
          </p:nvPr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03640" y="3284640"/>
            <a:ext cx="3600720" cy="13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 CE"/>
              </a:rPr>
              <a:t>Navigační a identifikační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ovéPole 3"/>
          <p:cNvSpPr/>
          <p:nvPr/>
        </p:nvSpPr>
        <p:spPr>
          <a:xfrm>
            <a:off x="5000760" y="5214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CE"/>
              </a:rPr>
              <a:t>Petr Bureš</a:t>
            </a:r>
            <a:endParaRPr b="0" lang="en-US" sz="28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přepravy nebezpečných nákl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, sledování, plánování a záchranné práce, propojení na další informační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0" name="Picture 3" descr="naklady5%20copy3"/>
          <p:cNvPicPr/>
          <p:nvPr/>
        </p:nvPicPr>
        <p:blipFill>
          <a:blip r:embed="rId1"/>
          <a:stretch/>
        </p:blipFill>
        <p:spPr>
          <a:xfrm>
            <a:off x="5429160" y="3857760"/>
            <a:ext cx="3375000" cy="20286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3643200" y="3681360"/>
            <a:ext cx="38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2" name="Picture 10" descr="IMG_0513"/>
          <p:cNvPicPr/>
          <p:nvPr/>
        </p:nvPicPr>
        <p:blipFill>
          <a:blip r:embed="rId2"/>
          <a:stretch/>
        </p:blipFill>
        <p:spPr>
          <a:xfrm>
            <a:off x="1785960" y="3500280"/>
            <a:ext cx="32670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3" name="Object 6"/>
          <p:cNvGraphicFramePr/>
          <p:nvPr/>
        </p:nvGraphicFramePr>
        <p:xfrm>
          <a:off x="4786200" y="4429080"/>
          <a:ext cx="1047960" cy="106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4429080"/>
                    <a:ext cx="10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sledování a řízení pohybu prostřednictvím GN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u po letištní ploše, propojení s řídícím centrem, výběr komunikačního prostředí, zabezpečení, testování,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38" name="Picture 2" descr="image010"/>
          <p:cNvPicPr/>
          <p:nvPr/>
        </p:nvPicPr>
        <p:blipFill>
          <a:blip r:embed="rId1"/>
          <a:stretch/>
        </p:blipFill>
        <p:spPr>
          <a:xfrm>
            <a:off x="1857240" y="3929040"/>
            <a:ext cx="3159360" cy="2143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"/>
          <p:cNvPicPr/>
          <p:nvPr/>
        </p:nvPicPr>
        <p:blipFill>
          <a:blip r:embed="rId2"/>
          <a:stretch/>
        </p:blipFill>
        <p:spPr>
          <a:xfrm>
            <a:off x="5715000" y="3857760"/>
            <a:ext cx="17146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Zástupný symbol pro zápatí 5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sah Prezent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ústavu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dynamické navig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telitní systémy elektronického mýtnéh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y pro sledování přepravy nebezpečných náklad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kladní informace o projek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stav se podílí na projektech v rámci laboratoře e-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tsk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 tematicky zaměřené projekty (navigace, dopravní informace a identifik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né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VaV MD ČR (dopravní informace, monitorování 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 projekty TP MPO ČR (identifikace, telematická jedno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popisu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áty a struktura protokolů DATEX2, TMC, TPEG, a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5613480" y="2786040"/>
            <a:ext cx="3530520" cy="210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2" name="Picture 2" descr="bla2"/>
          <p:cNvPicPr/>
          <p:nvPr/>
        </p:nvPicPr>
        <p:blipFill>
          <a:blip r:embed="rId2"/>
          <a:stretch/>
        </p:blipFill>
        <p:spPr>
          <a:xfrm>
            <a:off x="4500720" y="4071960"/>
            <a:ext cx="2207880" cy="2122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3" name="Picture 8" descr="tmcmsg.jpg"/>
          <p:cNvPicPr/>
          <p:nvPr/>
        </p:nvPicPr>
        <p:blipFill>
          <a:blip r:embed="rId3"/>
          <a:stretch/>
        </p:blipFill>
        <p:spPr>
          <a:xfrm>
            <a:off x="1500120" y="2786040"/>
            <a:ext cx="3500640" cy="2630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428480" y="857160"/>
            <a:ext cx="7391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lokalizace dopravních informac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dynamický popis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zba DI do mapového pod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2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9" descr="lt_stn_link"/>
          <p:cNvPicPr/>
          <p:nvPr/>
        </p:nvPicPr>
        <p:blipFill>
          <a:blip r:embed="rId1"/>
          <a:stretch/>
        </p:blipFill>
        <p:spPr>
          <a:xfrm>
            <a:off x="1643040" y="3286080"/>
            <a:ext cx="3643200" cy="2587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2"/>
          <a:stretch/>
        </p:blipFill>
        <p:spPr>
          <a:xfrm>
            <a:off x="3786120" y="3214800"/>
            <a:ext cx="4098960" cy="2746440"/>
          </a:xfrm>
          <a:prstGeom prst="rect">
            <a:avLst/>
          </a:prstGeom>
          <a:ln w="0">
            <a:noFill/>
          </a:ln>
        </p:spPr>
      </p:pic>
      <p:grpSp>
        <p:nvGrpSpPr>
          <p:cNvPr id="599" name="Skupina 17"/>
          <p:cNvGrpSpPr/>
          <p:nvPr/>
        </p:nvGrpSpPr>
        <p:grpSpPr>
          <a:xfrm>
            <a:off x="3786120" y="3214800"/>
            <a:ext cx="4006800" cy="2738160"/>
            <a:chOff x="3786120" y="3214800"/>
            <a:chExt cx="4006800" cy="2738160"/>
          </a:xfrm>
        </p:grpSpPr>
        <p:sp>
          <p:nvSpPr>
            <p:cNvPr id="600" name="Obdélník 11"/>
            <p:cNvSpPr/>
            <p:nvPr/>
          </p:nvSpPr>
          <p:spPr>
            <a:xfrm>
              <a:off x="3917880" y="4751280"/>
              <a:ext cx="3583080" cy="1035000"/>
            </a:xfrm>
            <a:prstGeom prst="rect">
              <a:avLst/>
            </a:prstGeom>
            <a:noFill/>
            <a:ln w="25560">
              <a:solidFill>
                <a:srgbClr val="c9dd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CE"/>
              </a:endParaRPr>
            </a:p>
          </p:txBody>
        </p:sp>
        <p:grpSp>
          <p:nvGrpSpPr>
            <p:cNvPr id="601" name="Skupina 17"/>
            <p:cNvGrpSpPr/>
            <p:nvPr/>
          </p:nvGrpSpPr>
          <p:grpSpPr>
            <a:xfrm>
              <a:off x="3786120" y="3214800"/>
              <a:ext cx="4006800" cy="2738160"/>
              <a:chOff x="3786120" y="3214800"/>
              <a:chExt cx="4006800" cy="2738160"/>
            </a:xfrm>
          </p:grpSpPr>
          <p:sp>
            <p:nvSpPr>
              <p:cNvPr id="602" name="Obdélník 12"/>
              <p:cNvSpPr/>
              <p:nvPr/>
            </p:nvSpPr>
            <p:spPr>
              <a:xfrm>
                <a:off x="3786120" y="3214800"/>
                <a:ext cx="4006800" cy="153144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3" name="Obdélník 14"/>
              <p:cNvSpPr/>
              <p:nvPr/>
            </p:nvSpPr>
            <p:spPr>
              <a:xfrm>
                <a:off x="3786120" y="4746240"/>
                <a:ext cx="1368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4" name="Obdélník 15"/>
              <p:cNvSpPr/>
              <p:nvPr/>
            </p:nvSpPr>
            <p:spPr>
              <a:xfrm>
                <a:off x="3786120" y="5779800"/>
                <a:ext cx="4006800" cy="17316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  <p:sp>
            <p:nvSpPr>
              <p:cNvPr id="605" name="Obdélník 16"/>
              <p:cNvSpPr/>
              <p:nvPr/>
            </p:nvSpPr>
            <p:spPr>
              <a:xfrm>
                <a:off x="7512480" y="4746240"/>
                <a:ext cx="277200" cy="1034280"/>
              </a:xfrm>
              <a:prstGeom prst="rect">
                <a:avLst/>
              </a:prstGeom>
              <a:solidFill>
                <a:srgbClr val="cec8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831a4"/>
                  </a:buClr>
                  <a:buSzPct val="85000"/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CE"/>
                </a:endParaRPr>
              </a:p>
            </p:txBody>
          </p:sp>
        </p:grpSp>
      </p:grpSp>
      <p:pic>
        <p:nvPicPr>
          <p:cNvPr id="606" name="Picture 2" descr="aplagora"/>
          <p:cNvPicPr/>
          <p:nvPr/>
        </p:nvPicPr>
        <p:blipFill>
          <a:blip r:embed="rId3"/>
          <a:stretch/>
        </p:blipFill>
        <p:spPr>
          <a:xfrm>
            <a:off x="6072120" y="3429000"/>
            <a:ext cx="2836800" cy="2338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TI - Dopravní informace (3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vysílání, příjmu a vizualizace dopravních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řenosových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funkčnosti navig. příst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0" name="Obrázek 9" descr="p118_Mio.jpg"/>
          <p:cNvPicPr/>
          <p:nvPr/>
        </p:nvPicPr>
        <p:blipFill>
          <a:blip r:embed="rId1"/>
          <a:stretch/>
        </p:blipFill>
        <p:spPr>
          <a:xfrm>
            <a:off x="5357880" y="4143240"/>
            <a:ext cx="3565440" cy="199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1" name="Picture 2" descr="P1370210"/>
          <p:cNvPicPr/>
          <p:nvPr/>
        </p:nvPicPr>
        <p:blipFill>
          <a:blip r:embed="rId2"/>
          <a:stretch/>
        </p:blipFill>
        <p:spPr>
          <a:xfrm>
            <a:off x="1428840" y="3714840"/>
            <a:ext cx="3692520" cy="2401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2" name="Picture 3" descr=""/>
          <p:cNvPicPr/>
          <p:nvPr/>
        </p:nvPicPr>
        <p:blipFill>
          <a:blip r:embed="rId3"/>
          <a:srcRect l="0" t="16339" r="0" b="13465"/>
          <a:stretch/>
        </p:blipFill>
        <p:spPr>
          <a:xfrm>
            <a:off x="3714840" y="3214800"/>
            <a:ext cx="3200400" cy="1684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identif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ředky ident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a zabezpečení identif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telematických aplik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FC, 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5857920" y="3857760"/>
            <a:ext cx="2552760" cy="2038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2071800" y="3929040"/>
            <a:ext cx="34290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v oblasti architektury systému mýtn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tický, satelitní systém, hybrid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hybridního systému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národních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em (C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1" name="Picture 5" descr="PC130011"/>
          <p:cNvPicPr/>
          <p:nvPr/>
        </p:nvPicPr>
        <p:blipFill>
          <a:blip r:embed="rId1"/>
          <a:stretch/>
        </p:blipFill>
        <p:spPr>
          <a:xfrm>
            <a:off x="4786200" y="3643200"/>
            <a:ext cx="39290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NSS - Satelitní systémy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5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voj universální telematické jedno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funkcí, rozhraní a přenosových prostř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1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voj proto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zápatí 3"/>
          <p:cNvSpPr/>
          <p:nvPr/>
        </p:nvSpPr>
        <p:spPr>
          <a:xfrm>
            <a:off x="1476360" y="640080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– Fakulta dopravní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Arial CE"/>
            </a:endParaRPr>
          </a:p>
        </p:txBody>
      </p:sp>
      <p:pic>
        <p:nvPicPr>
          <p:cNvPr id="625" name="Picture 5" descr="architecture"/>
          <p:cNvPicPr/>
          <p:nvPr/>
        </p:nvPicPr>
        <p:blipFill>
          <a:blip r:embed="rId1"/>
          <a:stretch/>
        </p:blipFill>
        <p:spPr>
          <a:xfrm>
            <a:off x="4714920" y="3857760"/>
            <a:ext cx="4178160" cy="18237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9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2928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1:12:06Z</dcterms:created>
  <dc:creator>jakub</dc:creator>
  <dc:description/>
  <dc:language>en-US</dc:language>
  <cp:lastModifiedBy>Pavel Hrubeš</cp:lastModifiedBy>
  <dcterms:modified xsi:type="dcterms:W3CDTF">2009-05-13T07:50:00Z</dcterms:modified>
  <cp:revision>136</cp:revision>
  <dc:subject/>
  <dc:title>Work Package 6</dc:title>
</cp:coreProperties>
</file>