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FA7C-AC50-4874-8B15-86EE7AAB7C3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E707-9A5A-4745-AE50-47EA27D987BB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6F15-0CE8-4376-91E1-0CC68E01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E72-132B-463C-ABE3-E85DB8AE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1514-C27C-444D-9F46-15B27433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F26-23F1-4AC5-986E-D820B848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C5B2-2A72-456B-B157-75F80821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4668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5440" y="91404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4756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4668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5440" y="3620520"/>
            <a:ext cx="237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B3F-1D6A-4B94-909B-63377DC7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CA8-0195-47A5-8A65-156C875A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6F6-372E-4D15-B26B-FD26ABC7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E311-5DEC-4592-88B3-575D1EA0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3C7-1FAA-4A5F-B054-05073736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5120" y="362052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2CC-ECA4-4B86-98CB-34A443DE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914040"/>
            <a:ext cx="360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620520"/>
            <a:ext cx="7391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6855-9B52-42A2-BBAF-ED5EA802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83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0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ské vysoké učení technické v Praze - Fakulta dopravní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Ústav řídicí techniky a telematik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6C1E-B422-4485-90AA-2F97C957FB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6" descr=""/>
          <p:cNvPicPr/>
          <p:nvPr/>
        </p:nvPicPr>
        <p:blipFill>
          <a:blip r:embed="rId3"/>
          <a:stretch/>
        </p:blipFill>
        <p:spPr>
          <a:xfrm>
            <a:off x="7543800" y="6381720"/>
            <a:ext cx="533520" cy="405000"/>
          </a:xfrm>
          <a:prstGeom prst="rect">
            <a:avLst/>
          </a:prstGeom>
          <a:ln w="0">
            <a:noFill/>
          </a:ln>
        </p:spPr>
      </p:pic>
      <p:sp>
        <p:nvSpPr>
          <p:cNvPr id="8" name="Line 45"/>
          <p:cNvSpPr/>
          <p:nvPr/>
        </p:nvSpPr>
        <p:spPr>
          <a:xfrm>
            <a:off x="838080" y="0"/>
            <a:ext cx="0" cy="624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49" descr="obr3a_hhh"/>
          <p:cNvPicPr/>
          <p:nvPr/>
        </p:nvPicPr>
        <p:blipFill>
          <a:blip r:embed="rId4"/>
          <a:srcRect l="15230" t="4755" r="69543" b="0"/>
          <a:stretch/>
        </p:blipFill>
        <p:spPr>
          <a:xfrm>
            <a:off x="0" y="0"/>
            <a:ext cx="1295280" cy="6324480"/>
          </a:xfrm>
          <a:prstGeom prst="rect">
            <a:avLst/>
          </a:prstGeom>
          <a:ln w="0">
            <a:noFill/>
          </a:ln>
        </p:spPr>
      </p:pic>
      <p:sp>
        <p:nvSpPr>
          <p:cNvPr id="10" name="Line 51"/>
          <p:cNvSpPr/>
          <p:nvPr/>
        </p:nvSpPr>
        <p:spPr>
          <a:xfrm>
            <a:off x="1295280" y="0"/>
            <a:ext cx="0" cy="632448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29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9" descr="obr3a_hhh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4952880" y="685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České vysoké učení technické v Pra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8769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a3d7a"/>
                </a:solidFill>
                <a:latin typeface="Arial"/>
              </a:rPr>
              <a:t>Fakulta doprav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4876920" y="2209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a3d7a"/>
                </a:solidFill>
                <a:latin typeface="Arial"/>
              </a:rPr>
              <a:t>Ústav řídicí techniky a telematik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4"/>
          <a:stretch/>
        </p:blipFill>
        <p:spPr>
          <a:xfrm>
            <a:off x="8305920" y="722160"/>
            <a:ext cx="761760" cy="573120"/>
          </a:xfrm>
          <a:prstGeom prst="rect">
            <a:avLst/>
          </a:prstGeom>
          <a:ln w="0">
            <a:noFill/>
          </a:ln>
        </p:spPr>
      </p:pic>
      <p:sp>
        <p:nvSpPr>
          <p:cNvPr id="53" name="Line 46"/>
          <p:cNvSpPr/>
          <p:nvPr/>
        </p:nvSpPr>
        <p:spPr>
          <a:xfrm>
            <a:off x="4572000" y="685800"/>
            <a:ext cx="0" cy="624852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016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876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920" y="2714400"/>
            <a:ext cx="37670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Představení fakulty, </a:t>
            </a:r>
            <a:br>
              <a:rPr sz="2000"/>
            </a:br>
            <a:r>
              <a:rPr b="1" lang="pl-PL" sz="2000" spc="-1" strike="noStrike">
                <a:solidFill>
                  <a:srgbClr val="2a3d7a"/>
                </a:solidFill>
                <a:latin typeface="Arial"/>
              </a:rPr>
              <a:t>ústavu K6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876560" y="4941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Prof. Dr. Ing. Miroslav Sví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Ing. Pavel Hrubeš, Ph</a:t>
            </a:r>
            <a:r>
              <a:rPr b="1" lang="en-US" sz="1400" spc="-1" strike="noStrike">
                <a:solidFill>
                  <a:srgbClr val="2a3d7a"/>
                </a:solidFill>
                <a:latin typeface="Arial"/>
              </a:rPr>
              <a:t>.</a:t>
            </a:r>
            <a:r>
              <a:rPr b="1" lang="cs-CZ" sz="1400" spc="-1" strike="noStrike">
                <a:solidFill>
                  <a:srgbClr val="2a3d7a"/>
                </a:solidFill>
                <a:latin typeface="Arial"/>
              </a:rPr>
              <a:t>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84360" y="52002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věten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Multimetr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496280" y="3789360"/>
            <a:ext cx="1647720" cy="2486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zpečnost a spolehlivost telematických systémů a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, implementaci, ověřování a akreditaci různých (pozemních i kosmických) telematických systémů a zařízení zejména systémy železniční zabezpečovací techniky tak, aby byly garantovány požadované systémové parametry. K daným aplikacím budou přidány i systémy testování a certifikace vybraných aplikací dle platných směrnic a standard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Martin Leso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ng. Faran, Ing. Fábera, Ing. Marvan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ční a navigační systé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zahrnuje návrh, implementaci a ověřování různých navigačních a identifikačních systémů s komponentami geoinformatiky jako jsou systémy automatického tísňového volání, systémy dynamické navigace, satelitní systémy elektronického mýtného, systémy pro sledování přepravy nebezpečných nákladů, atd. K daným aplikacím budou realizovány i systémy testování a certifik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bude: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Ing. Petr Bureš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c. Zelinka, Ing. Hrubeš, Ing. Vlčková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ěžej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DA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lemat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ney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Ž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PM Con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D Telematika, a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ružení pro dopravní telemat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 veřejné s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dopra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cie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itelství silnic a dál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a železniční dopravní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gistrát hl. m. Pr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operace ústavu v oblasti Va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adočeská univerzita v Pl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iverzita Pardub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sarykova univerzita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univerzita Libe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é učení technické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škola báňská- Technická univerzita Ost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Informatiky A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linská univerz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Del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Mnich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Link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Víd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U South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technica To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19640" y="914040"/>
            <a:ext cx="361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TS asoc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osti kooperace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táme veškeré formy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y ministerstev (MPO, MD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ací projekty (E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ské prog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700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tví a odbor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4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5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a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g. Pavel Hrubeš,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onviktská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10 00 Prah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:   http://www.lss.fd.cvut.cz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: hrubes@lss.fd.cvut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.:  (+420) 224 359 6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x:   (+420) 224 359 5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16640" indent="-4507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.:  (+420) 739 604 7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zápatí 4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sklizen"/>
          <p:cNvPicPr/>
          <p:nvPr/>
        </p:nvPicPr>
        <p:blipFill>
          <a:blip r:embed="rId1"/>
          <a:stretch/>
        </p:blipFill>
        <p:spPr>
          <a:xfrm>
            <a:off x="5072040" y="3571920"/>
            <a:ext cx="37861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first-page"/>
          <p:cNvPicPr/>
          <p:nvPr/>
        </p:nvPicPr>
        <p:blipFill>
          <a:blip r:embed="rId1"/>
          <a:stretch/>
        </p:blipFill>
        <p:spPr>
          <a:xfrm>
            <a:off x="1612800" y="857160"/>
            <a:ext cx="7245360" cy="543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2"/>
          <a:stretch/>
        </p:blipFill>
        <p:spPr>
          <a:xfrm>
            <a:off x="5715000" y="30002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070413FotoVyuka2OPRLZ0352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5114880" y="958680"/>
            <a:ext cx="3508560" cy="2408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Poslucharny 109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5114880" y="369576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pravní systémy a 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a ekonomika dopravy    a telekomunik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matizace a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ligentní dopravní syst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tecká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esionální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logie a údržba leta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firma"/>
          <p:cNvPicPr/>
          <p:nvPr/>
        </p:nvPicPr>
        <p:blipFill>
          <a:blip r:embed="rId1">
            <a:lum bright="64000"/>
          </a:blip>
          <a:srcRect l="0" t="0" r="2483" b="0"/>
          <a:stretch/>
        </p:blipFill>
        <p:spPr>
          <a:xfrm>
            <a:off x="5329080" y="928800"/>
            <a:ext cx="3600720" cy="26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rewi2"/>
          <p:cNvPicPr/>
          <p:nvPr/>
        </p:nvPicPr>
        <p:blipFill>
          <a:blip r:embed="rId2">
            <a:lum bright="52000"/>
          </a:blip>
          <a:stretch/>
        </p:blipFill>
        <p:spPr>
          <a:xfrm>
            <a:off x="4824360" y="3952800"/>
            <a:ext cx="417672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VUT v Praze, Fakulta doprav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aplikované mat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ch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ekonomiky a managementu doprav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informatiky a tele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jazyků a společenských vě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dopravní techn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zení dopravních procesů a logis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mechaniky a materi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řídicí techniky a telema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letecké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soudního znalectví v dopr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stav pro bakalářská studia - pracoviště Dě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7920" y="914040"/>
            <a:ext cx="6053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f. Dr. Ing. Miroslav Sví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oucí ú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ca 40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. laborato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28600">
              <a:spcBef>
                <a:spcPts val="499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. za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571760"/>
            <a:ext cx="1357560" cy="1809720"/>
          </a:xfrm>
          <a:prstGeom prst="rect">
            <a:avLst/>
          </a:prstGeom>
          <a:ln w="0">
            <a:noFill/>
          </a:ln>
        </p:spPr>
      </p:pic>
      <p:sp>
        <p:nvSpPr>
          <p:cNvPr id="121" name="TextovéPole 7"/>
          <p:cNvSpPr/>
          <p:nvPr/>
        </p:nvSpPr>
        <p:spPr>
          <a:xfrm>
            <a:off x="1357200" y="3786120"/>
            <a:ext cx="5643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ivity ústav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uka a vzdělávání, škol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ědecko - výzkum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Odborná činno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ešeršní práce, posudky, poradens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výzkumné zprávy, pilotní pro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65120" indent="-45072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měření, testování, certifik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143240" y="1479600"/>
            <a:ext cx="5086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lasti zájmu ústa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23"/>
          <p:cNvSpPr/>
          <p:nvPr/>
        </p:nvSpPr>
        <p:spPr>
          <a:xfrm>
            <a:off x="1285920" y="765000"/>
            <a:ext cx="7858080" cy="6072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Skupina 21" descr=""/>
          <p:cNvPicPr/>
          <p:nvPr/>
        </p:nvPicPr>
        <p:blipFill>
          <a:blip r:embed="rId1"/>
          <a:stretch/>
        </p:blipFill>
        <p:spPr>
          <a:xfrm>
            <a:off x="-353880" y="871560"/>
            <a:ext cx="924876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tele_sml_prezentac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818320" y="695160"/>
            <a:ext cx="5040360" cy="3233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lematické apl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rchitektur dopravně - telematických systémů, tvorbu koncepcí a strategií implementace telematických systémů, kontrola kvality telematických systémů, teorie systémů (dynamické aliance), nové metody v telematice (kvantová informatika), elektronické platby, rozsáhlé systémy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Zuzana Bělin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otruba, Prof. Novák, Prof. Svítek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zení do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řídicích systémů pozemní dopravy za pomoci dalších simulačních a modelovacích nástrojů tak, aby byla splněna kriteriální funkce řízení a to jak na úrovni HW, tak i S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Vladimír Fal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f. Vysoký, Prof. Přibyl, Doc. Tichý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1010372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3986280" y="3457440"/>
            <a:ext cx="5157720" cy="2900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borné aktivity ústavu 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475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dský faktor v do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hrnuje návrh a ověřování rozhraní člověk-stroj včetně realizace těchto rozhraní na simulátorech. V rámci této oblasti je i skupina zabývající se zpracováním různých signálů (Eye Tracking, Oxygenation Monitor, EEG, EKG,  atd.) a vytěžování těchto dat pro další přidružené oblasti jako je posuzování ovládacích prvků vozidel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ným koordinátorem této oblasti j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Petr Bouchner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ící členové ústav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f. Novák, Prof. Faber, at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31a4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zápatí 3"/>
          <p:cNvSpPr/>
          <p:nvPr/>
        </p:nvSpPr>
        <p:spPr>
          <a:xfrm>
            <a:off x="1600200" y="64008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České vysoké učení technické v Praze - Fakulta dopravní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Ústav řídicí techniky a telematik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3:27:44Z</dcterms:created>
  <dc:creator>Pavel Hrubeš</dc:creator>
  <dc:description/>
  <dc:language>en-US</dc:language>
  <cp:lastModifiedBy>Pavel Hrubeš</cp:lastModifiedBy>
  <dcterms:modified xsi:type="dcterms:W3CDTF">2009-05-13T12:55:13Z</dcterms:modified>
  <cp:revision>685</cp:revision>
  <dc:subject/>
  <dc:title>Pracovní jednání projektu OP RLZ 0352</dc:title>
</cp:coreProperties>
</file>