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12.jpeg" ContentType="image/jpeg"/>
  <Override PartName="/ppt/media/image5.wmf" ContentType="image/x-wmf"/>
  <Override PartName="/ppt/media/image25.png" ContentType="image/png"/>
  <Override PartName="/ppt/media/image21.png" ContentType="image/png"/>
  <Override PartName="/ppt/media/image3.wmf" ContentType="image/x-wmf"/>
  <Override PartName="/ppt/media/image4.png" ContentType="image/png"/>
  <Override PartName="/ppt/media/image20.png" ContentType="image/png"/>
  <Override PartName="/ppt/media/image2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13.jpeg" ContentType="image/jpeg"/>
  <Override PartName="/ppt/media/image2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3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Img"/>
          </p:nvPr>
        </p:nvSpPr>
        <p:spPr>
          <a:xfrm>
            <a:off x="993600" y="769680"/>
            <a:ext cx="511200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ftr" idx="3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 type="sldNum" idx="3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96B1-BD6D-4BC5-BD51-1A9E105C851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D3CD-9AD4-4661-ACDB-8D8F9C6C3CC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00D5A-390A-47F4-9F93-91EB84BB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6D667-332D-4627-8252-A60A90A2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55993-C471-4EFF-BE20-FBE20F16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E8A03-BC35-49ED-8B91-9D7D6621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0D36B-B517-46B5-AF9C-1DE7B92B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0887E-8E59-46F7-BDCA-4BC2F4A9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D1101-0CA1-4716-A425-C8BD4AA4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E600E-6CE2-4B48-9888-ED3F5C30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6B35C-2060-4568-A306-60F4BAC3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E8CD7-416A-43F5-A6FE-1374C103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56552-FB2D-40D0-8268-D24C3113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BBDE5-F29A-4D5F-A659-6C1C530A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3F6D5-097E-4CF6-87A9-319E5468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EB6AD-1FA5-44BD-B799-2E612687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EA61C-1DE1-4531-9991-FA563066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CDEE7-709A-4DDB-9B96-127FF9F3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42B88-42CA-4631-805D-509369C3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E0264-D23F-41F1-8E16-DAA06062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A7BC5-EE8A-432B-9F74-1DE8AFBD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D95FD-D887-4E7F-9E50-37AAAA7E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7A929-F11E-42FE-8B3A-9A201B39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A3F20-8E3B-4D61-A423-B09929EA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789E0-00E0-4E83-BF12-92EC2E29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546AA-F36F-4EDD-B1DF-C13EEFA3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99D44-B62E-43E6-85DB-075F8DB2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89438-F47B-42C8-BCB6-E321DB03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ED210-F6A4-4257-B5EE-FE705AFD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97BA7-1378-4B1C-84E8-5FE9E63F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BD414-9C95-49C7-A552-5C5C02AB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999F1-0470-45DC-8751-560BE94F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3BECE-3207-4AD4-94C1-6924FE88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BD77F-1254-4787-8BAA-25E0CC09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78306-712A-4466-8AA0-1E9564BB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771FA-2CB3-4820-A67F-F50BEAD4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7CC69-06BB-47CB-A8E3-BB0DC4BC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7AD65-2F67-4633-A955-D4E7B8B1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97367-0436-4070-A27D-AB51BF5B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C2DE8-EC78-4F38-A428-014E7D2D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B0F34-2C28-4F92-8692-396F28FB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A997E-F4BA-4D0D-9FCD-A25F677A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22542-8DD8-44A6-9433-AC74F920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A0FBC-006E-45B6-A663-09849312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FB27C-2B59-4F89-8A7D-4CBA85E6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52E0A-19DA-4A5D-B5AA-502792A9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EE774-60CB-4C8B-A94E-B663A572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B815B-59AC-4FD5-B7AB-76359EFB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4B450-6274-4BA3-9819-1359CDBD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25321-F469-4CBB-8179-B9E82858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9227C-71B0-4173-A085-58683A95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561C5-4667-43E4-98AB-0D84744F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DDFD-815B-4565-8DDE-A8C0E96D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7463-E87C-4A3F-8A53-ECE16A40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D977-5E98-48C6-89E1-DD599865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2F44-4521-4F51-9DA3-FC6ACD42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010B-459C-42B3-B135-BC4B439B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38C05-3011-45AF-8DD8-3A596309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9A66-766D-436A-BA02-E9249CFE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DD7E-0344-4440-BE93-64E074BE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56D8-7C5A-4D05-8101-37491D93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F74D-7B0F-4AEC-A240-5F86D086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469C-8438-4D03-87E6-E7DEFA26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73BC-A3B1-4A24-8F2F-9219A570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8AFF-989E-42A2-AD7F-B84CF1F1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87C86-6A8E-4815-ACC7-C7A1BBA9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71959-505B-4563-A931-0BC2F265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477C2-F889-4690-A313-F667C31A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89158-B289-457A-BCDB-E2EE8791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37F9E-1812-497E-9F5A-2EBD4CB7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21F4C-32E0-4F12-93E8-77CECA4B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AC344-50B8-47B7-B9C4-0C6AD1B3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582EE-2284-4CC9-A6E3-ED3EF64D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B0F9E-1E26-4C50-B262-3335A655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41877-5340-4B9A-97DB-1D2FD0B2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967C0-AA32-4123-A78C-BD8E12B0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E22E1-DD76-4C8C-913D-22544B9A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D9EF0-A251-4994-BFB1-7B2A154C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E2690-5DE4-4681-BF56-0F1539F9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5C4A5-C0BB-4AA2-B0EB-C9531E82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0645D-47FB-4279-B828-AB7C888E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85D3F-001C-45F5-B4A1-D8B0BEA3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0D51C-72E1-4F95-AF08-55E68623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37D52-5E08-4C0F-B9B7-524A6C7A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085C5-D40F-4ED1-BDAD-DC5DC62A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3EAC5-ABDE-45ED-8F7F-A4BFDFED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43FA3-0C5B-446B-BAF7-30F08E31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56A02-3CBD-4214-88F9-FE6042E1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34CAB-0134-49FD-BFFD-496DAD9F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EA458-D782-4A23-8968-387804EB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A169A-9D84-4B29-9B0A-1B215EBD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408FA-3CA2-459E-A7AA-B50922BC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F61FE-585A-4DB1-9F92-F9BE8A4B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17DD8-53C0-4984-96B3-6BE92383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9D7D9-E4FF-4986-9BFF-D5CB09B4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38511-DAC9-4AE1-85FD-F000BAD9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B7CF1-9949-4263-9707-2CED0AD2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43ACF-A4A6-4B00-9F8B-A6B6DA74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DCE7A-B8EF-4659-BE1C-5EC4E62A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249A2-B656-4549-AC19-4ED94265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D5915-2E5B-4294-898E-A439423E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4E8BA-58BD-4949-83E0-7C4CC972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66767-2372-4A48-ADED-6981D336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4F94E-C512-475D-9667-978CCBD5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2E213-5C3E-42B0-B9D6-FA117E3B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C40A0-EA4F-4579-8CC3-76313E94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F6F28-6EF0-4F48-939B-E2FA5D16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51B18-C1CE-4E01-A11F-5F3F9CD2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2DB13-AE04-45CF-A49D-9878757F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E8192-900B-4C52-A246-3F4CD918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9BCE5-0CF9-457B-B8C7-4D81D55D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98D5B-7F8C-45A8-AD6C-C7166995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C0607-69D8-4FF6-9D59-81D72C6C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23A70-A553-4E17-8B58-35AD5396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BBFBB-B5DA-4BFE-B9C7-FB61309E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4E9F5-CE01-4F07-AC64-9A2BC487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94EF5-52F4-40D5-B932-7D2AE6AE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3941F-580B-4F34-B95C-8B7C241A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96576-B32B-49BD-BEFD-70D4EC0E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386C0-D902-4141-AA41-892842B9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83A0E-32D8-4715-B75D-BC96FE07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8AC55-87C2-4ED6-B230-7E78BF60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645DB-20D5-479F-9778-0E0C9564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27CC1-22A1-4DC9-83E0-232D2FC3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5083C-0C20-49D2-A784-1F992E3D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BB753-D767-49EE-B6AD-35449A4A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268C9-1BCD-413E-B408-B29D7D97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CD518-C9AF-4A0D-8C48-D9F6848F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D179A-E115-4937-AB20-F5BEE487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C0A05-6A17-4CEF-9A62-C00FDCED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555DC-683D-41A5-97C6-3E81F1054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69CDD-E7C3-475B-B4C3-DA347716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BBC02-553B-4ABA-AA77-CAD0BB97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01F22-31BE-4330-9C36-46D9CFF7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40CF-2D5D-4386-A771-FECC98EA142B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3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6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sldNum" idx="27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BB94-B5CE-4404-BCEE-C91DCF58D694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ftr" idx="28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8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9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30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D6D9-9B8F-4DF9-9FBD-E016B57E5A48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31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2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52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3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2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3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8B8E-DB1E-49CD-8B6A-AC70394CA8A8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4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56600" cy="6902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4952880" y="685800"/>
            <a:ext cx="33530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Praze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74720" cy="58608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876920" y="1693800"/>
            <a:ext cx="426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Fakulta dopravní  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876920" y="24210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831a4"/>
                </a:solidFill>
                <a:latin typeface="Arial"/>
              </a:rPr>
              <a:t>Ústav řídicí techniky a telematiky</a:t>
            </a: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9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6A9F-5A29-4633-A73D-DCAD01E4009A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4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8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9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8F16-9B2B-457D-9FE6-1D325CD1D2F3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10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9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8FD3-4CF3-45EF-8EED-B0BFE7CB95D6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4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4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8B0D-D027-4415-938D-E0A35FA2FC8C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6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8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8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9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7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8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0685-AEDB-43ED-A33F-688FF95B1778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19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3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0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sldNum" idx="21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8948-EFC8-41FB-91DE-67137281B6EE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22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8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3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4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7752-F6C0-4A12-8C58-646A5CAC47A8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5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03640" y="3284640"/>
            <a:ext cx="3600720" cy="13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 CE"/>
              </a:rPr>
              <a:t>Navigační a identifikační systé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ovéPole 3"/>
          <p:cNvSpPr/>
          <p:nvPr/>
        </p:nvSpPr>
        <p:spPr>
          <a:xfrm>
            <a:off x="5000760" y="52149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CE"/>
              </a:rPr>
              <a:t>Petr Bureš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přepravy nebezpečných nákla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, sledování, plánování a záchranné práce, propojení na další informační 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0" name="Picture 3" descr="naklady5%20copy3"/>
          <p:cNvPicPr/>
          <p:nvPr/>
        </p:nvPicPr>
        <p:blipFill>
          <a:blip r:embed="rId1"/>
          <a:stretch/>
        </p:blipFill>
        <p:spPr>
          <a:xfrm>
            <a:off x="5429160" y="3857760"/>
            <a:ext cx="3375000" cy="20286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9"/>
          <p:cNvSpPr/>
          <p:nvPr/>
        </p:nvSpPr>
        <p:spPr>
          <a:xfrm>
            <a:off x="3643200" y="3681360"/>
            <a:ext cx="387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2" name="Picture 10" descr="IMG_0513"/>
          <p:cNvPicPr/>
          <p:nvPr/>
        </p:nvPicPr>
        <p:blipFill>
          <a:blip r:embed="rId2"/>
          <a:stretch/>
        </p:blipFill>
        <p:spPr>
          <a:xfrm>
            <a:off x="1785960" y="3500280"/>
            <a:ext cx="326700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3" name="Object 6"/>
          <p:cNvGraphicFramePr/>
          <p:nvPr/>
        </p:nvGraphicFramePr>
        <p:xfrm>
          <a:off x="4786200" y="4429080"/>
          <a:ext cx="104796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4429080"/>
                    <a:ext cx="10479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sledování a řízení pohybu prostřednictvím GN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u po letištní ploše, propojení s řídícím centrem, výběr komunikačního prostředí, zabezpečení, testování,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8" name="Picture 2" descr="image010"/>
          <p:cNvPicPr/>
          <p:nvPr/>
        </p:nvPicPr>
        <p:blipFill>
          <a:blip r:embed="rId1"/>
          <a:stretch/>
        </p:blipFill>
        <p:spPr>
          <a:xfrm>
            <a:off x="1857240" y="3929040"/>
            <a:ext cx="3159360" cy="21430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"/>
          <p:cNvPicPr/>
          <p:nvPr/>
        </p:nvPicPr>
        <p:blipFill>
          <a:blip r:embed="rId2"/>
          <a:stretch/>
        </p:blipFill>
        <p:spPr>
          <a:xfrm>
            <a:off x="5715000" y="3857760"/>
            <a:ext cx="17146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Zástupný symbol pro zápatí 5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sah Prezent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2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pojení ústavu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dynamické navig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atelitní systémy elektronického mýtnéh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pro sledování přepravy nebezpečných náklad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kladní informace o projekt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stav se podílí na projektech v rámci laboratoře e-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udentsk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 tematicky zaměřené projekty (navigace, dopravní informace a identifika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zkumn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VaV MD ČR (dopravní informace, monitorování 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TP MPO ČR (identifikace, telematická jednot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1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popisu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rmáty a struktura protokolů DATEX2, TMC, TPEG, at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5613480" y="2786040"/>
            <a:ext cx="3530520" cy="2104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2" name="Picture 2" descr="bla2"/>
          <p:cNvPicPr/>
          <p:nvPr/>
        </p:nvPicPr>
        <p:blipFill>
          <a:blip r:embed="rId2"/>
          <a:stretch/>
        </p:blipFill>
        <p:spPr>
          <a:xfrm>
            <a:off x="4500720" y="4071960"/>
            <a:ext cx="2207880" cy="2122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3" name="Picture 8" descr="tmcmsg.jpg"/>
          <p:cNvPicPr/>
          <p:nvPr/>
        </p:nvPicPr>
        <p:blipFill>
          <a:blip r:embed="rId3"/>
          <a:stretch/>
        </p:blipFill>
        <p:spPr>
          <a:xfrm>
            <a:off x="1500120" y="2786040"/>
            <a:ext cx="3500640" cy="2630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1428480" y="857160"/>
            <a:ext cx="73911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lokalizace dopravních informac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dynamický popis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zba DI do mapového podkl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2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Picture 9" descr="lt_stn_link"/>
          <p:cNvPicPr/>
          <p:nvPr/>
        </p:nvPicPr>
        <p:blipFill>
          <a:blip r:embed="rId1"/>
          <a:stretch/>
        </p:blipFill>
        <p:spPr>
          <a:xfrm>
            <a:off x="1643040" y="3286080"/>
            <a:ext cx="3643200" cy="25876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9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2"/>
          <a:stretch/>
        </p:blipFill>
        <p:spPr>
          <a:xfrm>
            <a:off x="3786120" y="3214800"/>
            <a:ext cx="4098960" cy="2746440"/>
          </a:xfrm>
          <a:prstGeom prst="rect">
            <a:avLst/>
          </a:prstGeom>
          <a:ln w="0">
            <a:noFill/>
          </a:ln>
        </p:spPr>
      </p:pic>
      <p:grpSp>
        <p:nvGrpSpPr>
          <p:cNvPr id="599" name="Skupina 17"/>
          <p:cNvGrpSpPr/>
          <p:nvPr/>
        </p:nvGrpSpPr>
        <p:grpSpPr>
          <a:xfrm>
            <a:off x="3786120" y="3214800"/>
            <a:ext cx="4006800" cy="2738160"/>
            <a:chOff x="3786120" y="3214800"/>
            <a:chExt cx="4006800" cy="2738160"/>
          </a:xfrm>
        </p:grpSpPr>
        <p:sp>
          <p:nvSpPr>
            <p:cNvPr id="600" name="Obdélník 11"/>
            <p:cNvSpPr/>
            <p:nvPr/>
          </p:nvSpPr>
          <p:spPr>
            <a:xfrm>
              <a:off x="3917880" y="4751280"/>
              <a:ext cx="3583080" cy="1035000"/>
            </a:xfrm>
            <a:prstGeom prst="rect">
              <a:avLst/>
            </a:prstGeom>
            <a:noFill/>
            <a:ln w="25560">
              <a:solidFill>
                <a:srgbClr val="c9dd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grpSp>
          <p:nvGrpSpPr>
            <p:cNvPr id="601" name="Skupina 17"/>
            <p:cNvGrpSpPr/>
            <p:nvPr/>
          </p:nvGrpSpPr>
          <p:grpSpPr>
            <a:xfrm>
              <a:off x="3786120" y="3214800"/>
              <a:ext cx="4006800" cy="2738160"/>
              <a:chOff x="3786120" y="3214800"/>
              <a:chExt cx="4006800" cy="2738160"/>
            </a:xfrm>
          </p:grpSpPr>
          <p:sp>
            <p:nvSpPr>
              <p:cNvPr id="602" name="Obdélník 12"/>
              <p:cNvSpPr/>
              <p:nvPr/>
            </p:nvSpPr>
            <p:spPr>
              <a:xfrm>
                <a:off x="3786120" y="3214800"/>
                <a:ext cx="4006800" cy="153144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3" name="Obdélník 14"/>
              <p:cNvSpPr/>
              <p:nvPr/>
            </p:nvSpPr>
            <p:spPr>
              <a:xfrm>
                <a:off x="3786120" y="4746240"/>
                <a:ext cx="1368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4" name="Obdélník 15"/>
              <p:cNvSpPr/>
              <p:nvPr/>
            </p:nvSpPr>
            <p:spPr>
              <a:xfrm>
                <a:off x="3786120" y="5779800"/>
                <a:ext cx="4006800" cy="17316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5" name="Obdélník 16"/>
              <p:cNvSpPr/>
              <p:nvPr/>
            </p:nvSpPr>
            <p:spPr>
              <a:xfrm>
                <a:off x="7512480" y="4746240"/>
                <a:ext cx="2772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</p:grpSp>
      </p:grpSp>
      <p:pic>
        <p:nvPicPr>
          <p:cNvPr id="606" name="Picture 2" descr="aplagora"/>
          <p:cNvPicPr/>
          <p:nvPr/>
        </p:nvPicPr>
        <p:blipFill>
          <a:blip r:embed="rId3"/>
          <a:stretch/>
        </p:blipFill>
        <p:spPr>
          <a:xfrm>
            <a:off x="6072120" y="3429000"/>
            <a:ext cx="2836800" cy="2338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3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vysílání, příjmu a vizualizace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přenosových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funkčnosti navig. přístr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0" name="Obrázek 9" descr="p118_Mio.jpg"/>
          <p:cNvPicPr/>
          <p:nvPr/>
        </p:nvPicPr>
        <p:blipFill>
          <a:blip r:embed="rId1"/>
          <a:stretch/>
        </p:blipFill>
        <p:spPr>
          <a:xfrm>
            <a:off x="5357880" y="4143240"/>
            <a:ext cx="3565440" cy="1990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1" name="Picture 2" descr="P1370210"/>
          <p:cNvPicPr/>
          <p:nvPr/>
        </p:nvPicPr>
        <p:blipFill>
          <a:blip r:embed="rId2"/>
          <a:stretch/>
        </p:blipFill>
        <p:spPr>
          <a:xfrm>
            <a:off x="1428840" y="3714840"/>
            <a:ext cx="3692520" cy="2401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2" name="Picture 3" descr=""/>
          <p:cNvPicPr/>
          <p:nvPr/>
        </p:nvPicPr>
        <p:blipFill>
          <a:blip r:embed="rId3"/>
          <a:srcRect l="0" t="16339" r="0" b="13465"/>
          <a:stretch/>
        </p:blipFill>
        <p:spPr>
          <a:xfrm>
            <a:off x="3714840" y="3214800"/>
            <a:ext cx="3200400" cy="1684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identifikačních technolog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tředky ident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a zabezpečení identif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telematických aplik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FC, EL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R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1"/>
          <a:stretch/>
        </p:blipFill>
        <p:spPr>
          <a:xfrm>
            <a:off x="5857920" y="3857760"/>
            <a:ext cx="2552760" cy="2038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"/>
          <p:cNvPicPr/>
          <p:nvPr/>
        </p:nvPicPr>
        <p:blipFill>
          <a:blip r:embed="rId2"/>
          <a:stretch/>
        </p:blipFill>
        <p:spPr>
          <a:xfrm>
            <a:off x="2071800" y="3929040"/>
            <a:ext cx="34290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architektury systému mýtné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satelitní systém, hybridní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hybridního systému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inárodních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em (C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1" name="Picture 5" descr="PC130011"/>
          <p:cNvPicPr/>
          <p:nvPr/>
        </p:nvPicPr>
        <p:blipFill>
          <a:blip r:embed="rId1"/>
          <a:stretch/>
        </p:blipFill>
        <p:spPr>
          <a:xfrm>
            <a:off x="4786200" y="3643200"/>
            <a:ext cx="392904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voj universální telematické jednot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funkcí, rozhraní a přenosových prostřed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voj prototy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5" name="Picture 5" descr="architecture"/>
          <p:cNvPicPr/>
          <p:nvPr/>
        </p:nvPicPr>
        <p:blipFill>
          <a:blip r:embed="rId1"/>
          <a:stretch/>
        </p:blipFill>
        <p:spPr>
          <a:xfrm>
            <a:off x="4714920" y="3857760"/>
            <a:ext cx="4178160" cy="18237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9" descr=""/>
          <p:cNvPicPr/>
          <p:nvPr/>
        </p:nvPicPr>
        <p:blipFill>
          <a:blip r:embed="rId2"/>
          <a:stretch/>
        </p:blipFill>
        <p:spPr>
          <a:xfrm>
            <a:off x="1571760" y="4429080"/>
            <a:ext cx="292896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1:12:06Z</dcterms:created>
  <dc:creator>jakub</dc:creator>
  <dc:description/>
  <dc:language>en-US</dc:language>
  <cp:lastModifiedBy>Pavel Hrubeš</cp:lastModifiedBy>
  <dcterms:modified xsi:type="dcterms:W3CDTF">2009-05-13T07:50:00Z</dcterms:modified>
  <cp:revision>136</cp:revision>
  <dc:subject/>
  <dc:title>Work Package 6</dc:title>
</cp:coreProperties>
</file>