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824C2-2724-450B-8891-675535F7D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B66E-444D-444D-9525-302252854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7AC58-4BBD-4C9E-A264-8E25F6CA4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E2C7-D7B1-49C4-BD16-7ADB187001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74234-D8B3-4289-8921-80A2D23F0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F38EE-8E7B-4A74-AF4A-3E5B847C7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1DC53-74E7-4D53-8CE8-C816D17B5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BEDFF-42E4-4605-B4D5-AA9152A86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2EBC3-1392-40F3-A7FC-92547F630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25169-6A98-49E5-941B-FE03EDC72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83B06-FDA5-4AF4-A51B-C6799A393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29C67-091D-4CE9-9E20-786204EE5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D180-2EE7-4FD6-9656-B10FABBCBAE9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1. Výzv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1 Pro koho je určena.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2 Rozpočet a urč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2. Podmínky a důvody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AAF96-88AD-4567-9EC6-8C99B6F182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1. Výzva</a:t>
            </a: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Dne 16. března 2009 byla v systému EMITS zveřejně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Výzva pro podávání návrhů projektových záměr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ýzva je urče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pouze pro české firmy, univerzity a výzkumná pracovišt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. Zájemci mohou podat zjednodušené „vlastní i již vyvíjené“ projektové návrhy ze všech technologických oblastí, ve kterých se Evropská kosmická agentura (ESA) angažuje (viz slide 5)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 systému EMITS jsou vypsány další konkrétní tendry určené pro ČR s veškerou specifikací a s datem uzávěrky. Pro podrobnější informace je nutná registrace do systému</a:t>
            </a: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608C4-E654-4493-8DA4-BE14DD6C8A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1 Pro koho jsou urče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ýzva pro podání projektových záměrů s termínem 15. květen je určena pro: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a)    letový hardware, s upřednostněním aktivit spojených se základním vybavením družic, senzorů či obecných technologií s potenciálem opětovného využití (rozpočet návrhu nesmí přesáhnout 1 0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b)    výzkumné a vývojové aktivity (včetně studií proveditelnosti) vedoucí k produktům (hardware nebo software), službám, ověření technologií, anebo obecným technologiím s potenciálem opětovného využití (rozpočet návrhu nesmí přesáhnout 2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c)    přípravné aktivity (např. studie, formulace uživatelských požadavků, průzkumy trhu) podporující českou konkurenceschopnost v programech ESA (povinných a volitelných), kterých se Česká republika účastní (rozpočet návrhu nesmí přesáhnout 100 000 Euro).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4593-C2FD-4F46-A5BA-6113703A0A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2 Rozpočet a urč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Celkový rozpočet vyčleněný pro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uto Výzv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je               2 500 000 Euro. V rámci této Výzvy mohou podávat návrhy pouze společnosti nebo organizace sídlící v České republice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onsorcia zahrnující společnosti nebo organizace z jiných členských států mohou být schválena pouze v případě náležitého odůvodnění jejich zapojení. Úkoly přidělené subjektům mimo Českou republiku nesmí v žádném případě tvořit hlavní aktivity navrhovaného záměru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zdělávací a informační aktivity nejsou součástí této Výzvy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1D971-6592-4D59-82ED-2D47B92736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Podmínky a důvody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ýzva je otevřena pouze do 15. května 2009 </a:t>
            </a:r>
            <a:r>
              <a:rPr b="1" lang="cs-CZ" sz="2400" spc="-1" strike="noStrike" u="sng">
                <a:solidFill>
                  <a:srgbClr val="11a0e7"/>
                </a:solidFill>
                <a:uFillTx/>
                <a:latin typeface="Times New Roman"/>
              </a:rPr>
              <a:t>jen </a:t>
            </a: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pro podávání návrhů projektových záměrů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Do ostatních tendrů vypsaných v systému EMITS je možno se přihlašovat i nadále do data uzavření vypsaného tendru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škeré schválené projektové záměry budou kompletně financovány agenturou ESA. Registrace v systému EMITS je bezplatná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ostor mají veškeré organizace po zaregistrování do systému EMITS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E43AC-482B-4EC2-A9BA-F57A96614B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56436-4BF4-4D3A-8CBB-1925AFEA6D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3T09:01:21Z</dcterms:modified>
  <cp:revision>38</cp:revision>
  <dc:subject/>
  <dc:title>Prezentace aplikace PowerPoint</dc:title>
</cp:coreProperties>
</file>