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78C4-52B1-4340-9BA5-84F6ED9D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F18A-96B8-445C-B3D4-319EB250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9C4-D78A-4072-AFCC-C4E82C46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168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336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43C2-3000-421C-A5E4-531552B7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B231-1E77-42DD-ABB6-033E124E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1790-FABB-4FBF-9F84-D66D131F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3A5C-7D82-446E-8733-25D20FF3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424C-9D30-4079-80B8-DA63A725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6705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8EC2-3C21-4E41-B9A0-C2E00D36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4892-DA00-4C2E-BA79-C8C8F0B7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EEC6-E88D-45E2-97CD-40064E70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53D6-2D7C-4422-91B5-FD8FCF5A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FEDC-6B41-4B24-931C-E156EB92C226}" type="datetime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638320" y="6552720"/>
            <a:ext cx="3505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1944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E24E-D132-47F9-92FA-58730BE4E4E8}" type="slidenum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640" y="1764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951680" y="17640"/>
            <a:ext cx="1160640" cy="6411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219320" y="39600"/>
            <a:ext cx="6629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000" y="836640"/>
            <a:ext cx="770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SimSun"/>
              </a:rPr>
              <a:t>Improving Air Quali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by using a System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eapfrogging the fundamental mistak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traditional transportation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2080" y="4724280"/>
            <a:ext cx="57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O. Univ.Prof. Dipl.-Ing. D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ERMANN KNOFLA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stitute for Transport Planning and Traffic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(Interdisciplinary Mobility and Accessibility Resear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912B-8457-4618-8419-17B30FDF006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4B5F9-88C6-4F1F-8C6D-59616E3084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robability of appearance of air pollute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773280"/>
            <a:ext cx="9140400" cy="5630040"/>
            <a:chOff x="0" y="773280"/>
            <a:chExt cx="9140400" cy="5630040"/>
          </a:xfrm>
        </p:grpSpPr>
        <p:sp>
          <p:nvSpPr>
            <p:cNvPr id="108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2160" y="509580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2160" y="46274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2160" y="41641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92160" y="36990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92160" y="32338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2160" y="276876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2160" y="23018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2160" y="18367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2160" y="13716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2160" y="906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7560" y="906480"/>
              <a:ext cx="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7972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736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672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59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5484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48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94240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9216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25560" y="5559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25560" y="509580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25560" y="46274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25560" y="41641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25560" y="36990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25560" y="32338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25560" y="276876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25560" y="23018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25560" y="18367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5560" y="13716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25560" y="906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2160" y="5559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99216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987560" y="5559480"/>
              <a:ext cx="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97972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9736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9672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959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95484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48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94240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3440" y="5425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1040" y="4960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1040" y="4494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1040" y="40291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1040" y="3564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1040" y="3100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1040" y="26337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1040" y="2170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1040" y="1703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1040" y="123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560" y="7732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32040" y="574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360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96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9116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85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772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708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648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02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-919440" y="2899080"/>
              <a:ext cx="22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ceptance [%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81920" y="59436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lking distance [m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4038480" y="914400"/>
              <a:ext cx="491184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932040" y="548640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8760" y="5334120"/>
            <a:ext cx="3726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36120" y="4902120"/>
            <a:ext cx="294372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Car orientated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38480" y="928800"/>
            <a:ext cx="6779880" cy="4609800"/>
            <a:chOff x="2238480" y="928800"/>
            <a:chExt cx="6779880" cy="4609800"/>
          </a:xfrm>
        </p:grpSpPr>
        <p:grpSp>
          <p:nvGrpSpPr>
            <p:cNvPr id="177" name=""/>
            <p:cNvGrpSpPr/>
            <p:nvPr/>
          </p:nvGrpSpPr>
          <p:grpSpPr>
            <a:xfrm>
              <a:off x="2238480" y="928800"/>
              <a:ext cx="6779880" cy="4609800"/>
              <a:chOff x="2238480" y="928800"/>
              <a:chExt cx="6779880" cy="4609800"/>
            </a:xfrm>
          </p:grpSpPr>
          <p:sp>
            <p:nvSpPr>
              <p:cNvPr id="178" name=""/>
              <p:cNvSpPr/>
              <p:nvPr/>
            </p:nvSpPr>
            <p:spPr>
              <a:xfrm>
                <a:off x="2238480" y="928800"/>
                <a:ext cx="319680" cy="927360"/>
              </a:xfrm>
              <a:custGeom>
                <a:avLst/>
                <a:gdLst/>
                <a:ahLst/>
                <a:rect l="l" t="t" r="r" b="b"/>
                <a:pathLst>
                  <a:path w="417" h="1185">
                    <a:moveTo>
                      <a:pt x="0" y="0"/>
                    </a:moveTo>
                    <a:lnTo>
                      <a:pt x="50" y="146"/>
                    </a:lnTo>
                    <a:lnTo>
                      <a:pt x="98" y="292"/>
                    </a:lnTo>
                    <a:lnTo>
                      <a:pt x="146" y="436"/>
                    </a:lnTo>
                    <a:lnTo>
                      <a:pt x="194" y="580"/>
                    </a:lnTo>
                    <a:lnTo>
                      <a:pt x="244" y="726"/>
                    </a:lnTo>
                    <a:lnTo>
                      <a:pt x="296" y="874"/>
                    </a:lnTo>
                    <a:lnTo>
                      <a:pt x="325" y="951"/>
                    </a:lnTo>
                    <a:lnTo>
                      <a:pt x="353" y="1027"/>
                    </a:lnTo>
                    <a:lnTo>
                      <a:pt x="384" y="1106"/>
                    </a:lnTo>
                    <a:lnTo>
                      <a:pt x="417" y="118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58160" y="1856160"/>
                <a:ext cx="497160" cy="1089000"/>
              </a:xfrm>
              <a:custGeom>
                <a:avLst/>
                <a:gdLst/>
                <a:ahLst/>
                <a:rect l="l" t="t" r="r" b="b"/>
                <a:pathLst>
                  <a:path w="645" h="1388">
                    <a:moveTo>
                      <a:pt x="0" y="0"/>
                    </a:moveTo>
                    <a:lnTo>
                      <a:pt x="34" y="82"/>
                    </a:lnTo>
                    <a:lnTo>
                      <a:pt x="73" y="171"/>
                    </a:lnTo>
                    <a:lnTo>
                      <a:pt x="113" y="261"/>
                    </a:lnTo>
                    <a:lnTo>
                      <a:pt x="155" y="355"/>
                    </a:lnTo>
                    <a:lnTo>
                      <a:pt x="198" y="451"/>
                    </a:lnTo>
                    <a:lnTo>
                      <a:pt x="244" y="549"/>
                    </a:lnTo>
                    <a:lnTo>
                      <a:pt x="288" y="647"/>
                    </a:lnTo>
                    <a:lnTo>
                      <a:pt x="334" y="743"/>
                    </a:lnTo>
                    <a:lnTo>
                      <a:pt x="378" y="837"/>
                    </a:lnTo>
                    <a:lnTo>
                      <a:pt x="422" y="931"/>
                    </a:lnTo>
                    <a:lnTo>
                      <a:pt x="466" y="1019"/>
                    </a:lnTo>
                    <a:lnTo>
                      <a:pt x="507" y="1106"/>
                    </a:lnTo>
                    <a:lnTo>
                      <a:pt x="526" y="1146"/>
                    </a:lnTo>
                    <a:lnTo>
                      <a:pt x="545" y="1186"/>
                    </a:lnTo>
                    <a:lnTo>
                      <a:pt x="564" y="1223"/>
                    </a:lnTo>
                    <a:lnTo>
                      <a:pt x="582" y="1259"/>
                    </a:lnTo>
                    <a:lnTo>
                      <a:pt x="599" y="1296"/>
                    </a:lnTo>
                    <a:lnTo>
                      <a:pt x="616" y="1329"/>
                    </a:lnTo>
                    <a:lnTo>
                      <a:pt x="632" y="1359"/>
                    </a:lnTo>
                    <a:lnTo>
                      <a:pt x="645" y="138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55680" y="2945160"/>
                <a:ext cx="182520" cy="314640"/>
              </a:xfrm>
              <a:custGeom>
                <a:avLst/>
                <a:gdLst/>
                <a:ahLst/>
                <a:rect l="l" t="t" r="r" b="b"/>
                <a:pathLst>
                  <a:path w="238" h="403">
                    <a:moveTo>
                      <a:pt x="0" y="0"/>
                    </a:moveTo>
                    <a:lnTo>
                      <a:pt x="19" y="38"/>
                    </a:lnTo>
                    <a:lnTo>
                      <a:pt x="36" y="73"/>
                    </a:lnTo>
                    <a:lnTo>
                      <a:pt x="54" y="106"/>
                    </a:lnTo>
                    <a:lnTo>
                      <a:pt x="71" y="136"/>
                    </a:lnTo>
                    <a:lnTo>
                      <a:pt x="86" y="163"/>
                    </a:lnTo>
                    <a:lnTo>
                      <a:pt x="102" y="190"/>
                    </a:lnTo>
                    <a:lnTo>
                      <a:pt x="115" y="213"/>
                    </a:lnTo>
                    <a:lnTo>
                      <a:pt x="129" y="238"/>
                    </a:lnTo>
                    <a:lnTo>
                      <a:pt x="157" y="280"/>
                    </a:lnTo>
                    <a:lnTo>
                      <a:pt x="184" y="321"/>
                    </a:lnTo>
                    <a:lnTo>
                      <a:pt x="211" y="361"/>
                    </a:lnTo>
                    <a:lnTo>
                      <a:pt x="238" y="40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38560" y="3260160"/>
                <a:ext cx="315360" cy="454320"/>
              </a:xfrm>
              <a:custGeom>
                <a:avLst/>
                <a:gdLst/>
                <a:ahLst/>
                <a:rect l="l" t="t" r="r" b="b"/>
                <a:pathLst>
                  <a:path w="409" h="580">
                    <a:moveTo>
                      <a:pt x="0" y="0"/>
                    </a:moveTo>
                    <a:lnTo>
                      <a:pt x="42" y="64"/>
                    </a:lnTo>
                    <a:lnTo>
                      <a:pt x="85" y="131"/>
                    </a:lnTo>
                    <a:lnTo>
                      <a:pt x="131" y="200"/>
                    </a:lnTo>
                    <a:lnTo>
                      <a:pt x="179" y="271"/>
                    </a:lnTo>
                    <a:lnTo>
                      <a:pt x="230" y="346"/>
                    </a:lnTo>
                    <a:lnTo>
                      <a:pt x="286" y="423"/>
                    </a:lnTo>
                    <a:lnTo>
                      <a:pt x="346" y="501"/>
                    </a:lnTo>
                    <a:lnTo>
                      <a:pt x="409" y="58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53920" y="3714840"/>
                <a:ext cx="495360" cy="546840"/>
              </a:xfrm>
              <a:custGeom>
                <a:avLst/>
                <a:gdLst/>
                <a:ahLst/>
                <a:rect l="l" t="t" r="r" b="b"/>
                <a:pathLst>
                  <a:path w="645" h="697">
                    <a:moveTo>
                      <a:pt x="0" y="0"/>
                    </a:moveTo>
                    <a:lnTo>
                      <a:pt x="35" y="40"/>
                    </a:lnTo>
                    <a:lnTo>
                      <a:pt x="69" y="83"/>
                    </a:lnTo>
                    <a:lnTo>
                      <a:pt x="106" y="127"/>
                    </a:lnTo>
                    <a:lnTo>
                      <a:pt x="144" y="171"/>
                    </a:lnTo>
                    <a:lnTo>
                      <a:pt x="225" y="261"/>
                    </a:lnTo>
                    <a:lnTo>
                      <a:pt x="307" y="353"/>
                    </a:lnTo>
                    <a:lnTo>
                      <a:pt x="394" y="446"/>
                    </a:lnTo>
                    <a:lnTo>
                      <a:pt x="478" y="534"/>
                    </a:lnTo>
                    <a:lnTo>
                      <a:pt x="520" y="578"/>
                    </a:lnTo>
                    <a:lnTo>
                      <a:pt x="563" y="618"/>
                    </a:lnTo>
                    <a:lnTo>
                      <a:pt x="605" y="659"/>
                    </a:lnTo>
                    <a:lnTo>
                      <a:pt x="645" y="69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049640" y="4261680"/>
                <a:ext cx="497160" cy="384120"/>
              </a:xfrm>
              <a:custGeom>
                <a:avLst/>
                <a:gdLst/>
                <a:ahLst/>
                <a:rect l="l" t="t" r="r" b="b"/>
                <a:pathLst>
                  <a:path w="645" h="492">
                    <a:moveTo>
                      <a:pt x="0" y="0"/>
                    </a:moveTo>
                    <a:lnTo>
                      <a:pt x="81" y="73"/>
                    </a:lnTo>
                    <a:lnTo>
                      <a:pt x="161" y="140"/>
                    </a:lnTo>
                    <a:lnTo>
                      <a:pt x="242" y="206"/>
                    </a:lnTo>
                    <a:lnTo>
                      <a:pt x="323" y="267"/>
                    </a:lnTo>
                    <a:lnTo>
                      <a:pt x="403" y="326"/>
                    </a:lnTo>
                    <a:lnTo>
                      <a:pt x="484" y="384"/>
                    </a:lnTo>
                    <a:lnTo>
                      <a:pt x="565" y="438"/>
                    </a:lnTo>
                    <a:lnTo>
                      <a:pt x="645" y="49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46800" y="4645800"/>
                <a:ext cx="496800" cy="27252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0" y="0"/>
                    </a:moveTo>
                    <a:lnTo>
                      <a:pt x="81" y="51"/>
                    </a:lnTo>
                    <a:lnTo>
                      <a:pt x="162" y="99"/>
                    </a:lnTo>
                    <a:lnTo>
                      <a:pt x="242" y="146"/>
                    </a:lnTo>
                    <a:lnTo>
                      <a:pt x="323" y="188"/>
                    </a:lnTo>
                    <a:lnTo>
                      <a:pt x="405" y="230"/>
                    </a:lnTo>
                    <a:lnTo>
                      <a:pt x="486" y="270"/>
                    </a:lnTo>
                    <a:lnTo>
                      <a:pt x="647" y="34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43600" y="4918320"/>
                <a:ext cx="496800" cy="194040"/>
              </a:xfrm>
              <a:custGeom>
                <a:avLst/>
                <a:gdLst/>
                <a:ahLst/>
                <a:rect l="l" t="t" r="r" b="b"/>
                <a:pathLst>
                  <a:path w="646" h="248">
                    <a:moveTo>
                      <a:pt x="0" y="0"/>
                    </a:moveTo>
                    <a:lnTo>
                      <a:pt x="81" y="37"/>
                    </a:lnTo>
                    <a:lnTo>
                      <a:pt x="162" y="71"/>
                    </a:lnTo>
                    <a:lnTo>
                      <a:pt x="242" y="104"/>
                    </a:lnTo>
                    <a:lnTo>
                      <a:pt x="323" y="135"/>
                    </a:lnTo>
                    <a:lnTo>
                      <a:pt x="484" y="194"/>
                    </a:lnTo>
                    <a:lnTo>
                      <a:pt x="646" y="24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40760" y="5112720"/>
                <a:ext cx="495360" cy="136080"/>
              </a:xfrm>
              <a:custGeom>
                <a:avLst/>
                <a:gdLst/>
                <a:ahLst/>
                <a:rect l="l" t="t" r="r" b="b"/>
                <a:pathLst>
                  <a:path w="645" h="175">
                    <a:moveTo>
                      <a:pt x="0" y="0"/>
                    </a:moveTo>
                    <a:lnTo>
                      <a:pt x="80" y="25"/>
                    </a:lnTo>
                    <a:lnTo>
                      <a:pt x="161" y="50"/>
                    </a:lnTo>
                    <a:lnTo>
                      <a:pt x="322" y="96"/>
                    </a:lnTo>
                    <a:lnTo>
                      <a:pt x="483" y="136"/>
                    </a:lnTo>
                    <a:lnTo>
                      <a:pt x="645" y="17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36120" y="5248800"/>
                <a:ext cx="497160" cy="97200"/>
              </a:xfrm>
              <a:custGeom>
                <a:avLst/>
                <a:gdLst/>
                <a:ahLst/>
                <a:rect l="l" t="t" r="r" b="b"/>
                <a:pathLst>
                  <a:path w="645" h="122">
                    <a:moveTo>
                      <a:pt x="0" y="0"/>
                    </a:moveTo>
                    <a:lnTo>
                      <a:pt x="161" y="34"/>
                    </a:lnTo>
                    <a:lnTo>
                      <a:pt x="322" y="67"/>
                    </a:lnTo>
                    <a:lnTo>
                      <a:pt x="484" y="96"/>
                    </a:lnTo>
                    <a:lnTo>
                      <a:pt x="645" y="1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33640" y="5346000"/>
                <a:ext cx="496800" cy="68760"/>
              </a:xfrm>
              <a:custGeom>
                <a:avLst/>
                <a:gdLst/>
                <a:ahLst/>
                <a:rect l="l" t="t" r="r" b="b"/>
                <a:pathLst>
                  <a:path w="647" h="89">
                    <a:moveTo>
                      <a:pt x="0" y="0"/>
                    </a:moveTo>
                    <a:lnTo>
                      <a:pt x="161" y="25"/>
                    </a:lnTo>
                    <a:lnTo>
                      <a:pt x="322" y="48"/>
                    </a:lnTo>
                    <a:lnTo>
                      <a:pt x="486" y="70"/>
                    </a:lnTo>
                    <a:lnTo>
                      <a:pt x="647" y="8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30440" y="5415120"/>
                <a:ext cx="496800" cy="48600"/>
              </a:xfrm>
              <a:custGeom>
                <a:avLst/>
                <a:gdLst/>
                <a:ahLst/>
                <a:rect l="l" t="t" r="r" b="b"/>
                <a:pathLst>
                  <a:path w="645" h="61">
                    <a:moveTo>
                      <a:pt x="0" y="0"/>
                    </a:moveTo>
                    <a:lnTo>
                      <a:pt x="161" y="17"/>
                    </a:lnTo>
                    <a:lnTo>
                      <a:pt x="322" y="32"/>
                    </a:lnTo>
                    <a:lnTo>
                      <a:pt x="645" y="6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27240" y="5463720"/>
                <a:ext cx="497160" cy="34200"/>
              </a:xfrm>
              <a:custGeom>
                <a:avLst/>
                <a:gdLst/>
                <a:ahLst/>
                <a:rect l="l" t="t" r="r" b="b"/>
                <a:pathLst>
                  <a:path w="645" h="44">
                    <a:moveTo>
                      <a:pt x="0" y="0"/>
                    </a:moveTo>
                    <a:lnTo>
                      <a:pt x="323" y="23"/>
                    </a:lnTo>
                    <a:lnTo>
                      <a:pt x="645" y="4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024760" y="5498280"/>
                <a:ext cx="496800" cy="23400"/>
              </a:xfrm>
              <a:custGeom>
                <a:avLst/>
                <a:gdLst/>
                <a:ahLst/>
                <a:rect l="l" t="t" r="r" b="b"/>
                <a:pathLst>
                  <a:path w="647" h="31">
                    <a:moveTo>
                      <a:pt x="0" y="0"/>
                    </a:moveTo>
                    <a:lnTo>
                      <a:pt x="323" y="18"/>
                    </a:lnTo>
                    <a:lnTo>
                      <a:pt x="647" y="3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521560" y="5521680"/>
                <a:ext cx="496800" cy="16920"/>
              </a:xfrm>
              <a:custGeom>
                <a:avLst/>
                <a:gdLst/>
                <a:ahLst/>
                <a:rect l="l" t="t" r="r" b="b"/>
                <a:pathLst>
                  <a:path w="645" h="21">
                    <a:moveTo>
                      <a:pt x="0" y="0"/>
                    </a:moveTo>
                    <a:lnTo>
                      <a:pt x="323" y="12"/>
                    </a:lnTo>
                    <a:lnTo>
                      <a:pt x="645" y="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6267960" y="3768840"/>
              <a:ext cx="2367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bability to ch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e 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19720" y="3983040"/>
              <a:ext cx="182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D99A-5C78-4067-82E0-5E35733807C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8C65C-13F0-4A55-B0D8-1082462048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Parking at home is the main cause of all air pollution in the system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39800" y="1065240"/>
            <a:ext cx="7540560" cy="4922280"/>
            <a:chOff x="739800" y="1065240"/>
            <a:chExt cx="7540560" cy="4922280"/>
          </a:xfrm>
        </p:grpSpPr>
        <p:grpSp>
          <p:nvGrpSpPr>
            <p:cNvPr id="198" name=""/>
            <p:cNvGrpSpPr/>
            <p:nvPr/>
          </p:nvGrpSpPr>
          <p:grpSpPr>
            <a:xfrm>
              <a:off x="2211480" y="4012920"/>
              <a:ext cx="2836800" cy="926640"/>
              <a:chOff x="2211480" y="4012920"/>
              <a:chExt cx="2836800" cy="926640"/>
            </a:xfrm>
          </p:grpSpPr>
          <p:sp>
            <p:nvSpPr>
              <p:cNvPr id="199" name=""/>
              <p:cNvSpPr/>
              <p:nvPr/>
            </p:nvSpPr>
            <p:spPr>
              <a:xfrm>
                <a:off x="2211480" y="4012920"/>
                <a:ext cx="2732040" cy="883800"/>
              </a:xfrm>
              <a:custGeom>
                <a:avLst/>
                <a:gdLst/>
                <a:ahLst/>
                <a:rect l="l" t="t" r="r" b="b"/>
                <a:pathLst>
                  <a:path w="3444" h="1112">
                    <a:moveTo>
                      <a:pt x="21" y="0"/>
                    </a:moveTo>
                    <a:lnTo>
                      <a:pt x="0" y="0"/>
                    </a:lnTo>
                    <a:lnTo>
                      <a:pt x="2" y="25"/>
                    </a:lnTo>
                    <a:lnTo>
                      <a:pt x="5" y="50"/>
                    </a:lnTo>
                    <a:lnTo>
                      <a:pt x="12" y="76"/>
                    </a:lnTo>
                    <a:lnTo>
                      <a:pt x="21" y="101"/>
                    </a:lnTo>
                    <a:lnTo>
                      <a:pt x="22" y="108"/>
                    </a:lnTo>
                    <a:lnTo>
                      <a:pt x="32" y="133"/>
                    </a:lnTo>
                    <a:lnTo>
                      <a:pt x="46" y="158"/>
                    </a:lnTo>
                    <a:lnTo>
                      <a:pt x="61" y="184"/>
                    </a:lnTo>
                    <a:lnTo>
                      <a:pt x="80" y="209"/>
                    </a:lnTo>
                    <a:lnTo>
                      <a:pt x="98" y="233"/>
                    </a:lnTo>
                    <a:lnTo>
                      <a:pt x="120" y="258"/>
                    </a:lnTo>
                    <a:lnTo>
                      <a:pt x="146" y="282"/>
                    </a:lnTo>
                    <a:lnTo>
                      <a:pt x="171" y="307"/>
                    </a:lnTo>
                    <a:lnTo>
                      <a:pt x="200" y="330"/>
                    </a:lnTo>
                    <a:lnTo>
                      <a:pt x="230" y="356"/>
                    </a:lnTo>
                    <a:lnTo>
                      <a:pt x="262" y="379"/>
                    </a:lnTo>
                    <a:lnTo>
                      <a:pt x="296" y="403"/>
                    </a:lnTo>
                    <a:lnTo>
                      <a:pt x="299" y="405"/>
                    </a:lnTo>
                    <a:lnTo>
                      <a:pt x="335" y="428"/>
                    </a:lnTo>
                    <a:lnTo>
                      <a:pt x="372" y="452"/>
                    </a:lnTo>
                    <a:lnTo>
                      <a:pt x="412" y="476"/>
                    </a:lnTo>
                    <a:lnTo>
                      <a:pt x="453" y="498"/>
                    </a:lnTo>
                    <a:lnTo>
                      <a:pt x="495" y="521"/>
                    </a:lnTo>
                    <a:lnTo>
                      <a:pt x="541" y="543"/>
                    </a:lnTo>
                    <a:lnTo>
                      <a:pt x="635" y="587"/>
                    </a:lnTo>
                    <a:lnTo>
                      <a:pt x="735" y="631"/>
                    </a:lnTo>
                    <a:lnTo>
                      <a:pt x="841" y="673"/>
                    </a:lnTo>
                    <a:lnTo>
                      <a:pt x="954" y="714"/>
                    </a:lnTo>
                    <a:lnTo>
                      <a:pt x="1072" y="752"/>
                    </a:lnTo>
                    <a:lnTo>
                      <a:pt x="1194" y="790"/>
                    </a:lnTo>
                    <a:lnTo>
                      <a:pt x="1322" y="827"/>
                    </a:lnTo>
                    <a:lnTo>
                      <a:pt x="1454" y="861"/>
                    </a:lnTo>
                    <a:lnTo>
                      <a:pt x="1590" y="893"/>
                    </a:lnTo>
                    <a:lnTo>
                      <a:pt x="1731" y="925"/>
                    </a:lnTo>
                    <a:lnTo>
                      <a:pt x="1734" y="925"/>
                    </a:lnTo>
                    <a:lnTo>
                      <a:pt x="1877" y="953"/>
                    </a:lnTo>
                    <a:lnTo>
                      <a:pt x="2024" y="980"/>
                    </a:lnTo>
                    <a:lnTo>
                      <a:pt x="2174" y="1006"/>
                    </a:lnTo>
                    <a:lnTo>
                      <a:pt x="2326" y="1028"/>
                    </a:lnTo>
                    <a:lnTo>
                      <a:pt x="2482" y="1048"/>
                    </a:lnTo>
                    <a:lnTo>
                      <a:pt x="2639" y="1065"/>
                    </a:lnTo>
                    <a:lnTo>
                      <a:pt x="2797" y="1080"/>
                    </a:lnTo>
                    <a:lnTo>
                      <a:pt x="2958" y="1092"/>
                    </a:lnTo>
                    <a:lnTo>
                      <a:pt x="3120" y="1102"/>
                    </a:lnTo>
                    <a:lnTo>
                      <a:pt x="3282" y="1109"/>
                    </a:lnTo>
                    <a:lnTo>
                      <a:pt x="3444" y="1112"/>
                    </a:lnTo>
                    <a:lnTo>
                      <a:pt x="3444" y="1092"/>
                    </a:lnTo>
                    <a:lnTo>
                      <a:pt x="3282" y="1088"/>
                    </a:lnTo>
                    <a:lnTo>
                      <a:pt x="3120" y="1082"/>
                    </a:lnTo>
                    <a:lnTo>
                      <a:pt x="2958" y="1072"/>
                    </a:lnTo>
                    <a:lnTo>
                      <a:pt x="2797" y="1060"/>
                    </a:lnTo>
                    <a:lnTo>
                      <a:pt x="2639" y="1045"/>
                    </a:lnTo>
                    <a:lnTo>
                      <a:pt x="2482" y="1028"/>
                    </a:lnTo>
                    <a:lnTo>
                      <a:pt x="2326" y="1007"/>
                    </a:lnTo>
                    <a:lnTo>
                      <a:pt x="2174" y="985"/>
                    </a:lnTo>
                    <a:lnTo>
                      <a:pt x="2024" y="960"/>
                    </a:lnTo>
                    <a:lnTo>
                      <a:pt x="1877" y="933"/>
                    </a:lnTo>
                    <a:lnTo>
                      <a:pt x="1734" y="904"/>
                    </a:lnTo>
                    <a:lnTo>
                      <a:pt x="1734" y="915"/>
                    </a:lnTo>
                    <a:lnTo>
                      <a:pt x="1739" y="906"/>
                    </a:lnTo>
                    <a:lnTo>
                      <a:pt x="1599" y="874"/>
                    </a:lnTo>
                    <a:lnTo>
                      <a:pt x="1462" y="842"/>
                    </a:lnTo>
                    <a:lnTo>
                      <a:pt x="1330" y="808"/>
                    </a:lnTo>
                    <a:lnTo>
                      <a:pt x="1202" y="771"/>
                    </a:lnTo>
                    <a:lnTo>
                      <a:pt x="1081" y="734"/>
                    </a:lnTo>
                    <a:lnTo>
                      <a:pt x="962" y="695"/>
                    </a:lnTo>
                    <a:lnTo>
                      <a:pt x="849" y="655"/>
                    </a:lnTo>
                    <a:lnTo>
                      <a:pt x="743" y="612"/>
                    </a:lnTo>
                    <a:lnTo>
                      <a:pt x="643" y="568"/>
                    </a:lnTo>
                    <a:lnTo>
                      <a:pt x="549" y="525"/>
                    </a:lnTo>
                    <a:lnTo>
                      <a:pt x="503" y="503"/>
                    </a:lnTo>
                    <a:lnTo>
                      <a:pt x="461" y="479"/>
                    </a:lnTo>
                    <a:lnTo>
                      <a:pt x="421" y="457"/>
                    </a:lnTo>
                    <a:lnTo>
                      <a:pt x="380" y="433"/>
                    </a:lnTo>
                    <a:lnTo>
                      <a:pt x="343" y="410"/>
                    </a:lnTo>
                    <a:lnTo>
                      <a:pt x="308" y="386"/>
                    </a:lnTo>
                    <a:lnTo>
                      <a:pt x="303" y="396"/>
                    </a:lnTo>
                    <a:lnTo>
                      <a:pt x="311" y="388"/>
                    </a:lnTo>
                    <a:lnTo>
                      <a:pt x="277" y="364"/>
                    </a:lnTo>
                    <a:lnTo>
                      <a:pt x="245" y="341"/>
                    </a:lnTo>
                    <a:lnTo>
                      <a:pt x="215" y="315"/>
                    </a:lnTo>
                    <a:lnTo>
                      <a:pt x="186" y="292"/>
                    </a:lnTo>
                    <a:lnTo>
                      <a:pt x="161" y="266"/>
                    </a:lnTo>
                    <a:lnTo>
                      <a:pt x="135" y="243"/>
                    </a:lnTo>
                    <a:lnTo>
                      <a:pt x="113" y="217"/>
                    </a:lnTo>
                    <a:lnTo>
                      <a:pt x="95" y="194"/>
                    </a:lnTo>
                    <a:lnTo>
                      <a:pt x="76" y="168"/>
                    </a:lnTo>
                    <a:lnTo>
                      <a:pt x="61" y="143"/>
                    </a:lnTo>
                    <a:lnTo>
                      <a:pt x="48" y="118"/>
                    </a:lnTo>
                    <a:lnTo>
                      <a:pt x="38" y="92"/>
                    </a:lnTo>
                    <a:lnTo>
                      <a:pt x="31" y="101"/>
                    </a:lnTo>
                    <a:lnTo>
                      <a:pt x="41" y="101"/>
                    </a:lnTo>
                    <a:lnTo>
                      <a:pt x="32" y="76"/>
                    </a:lnTo>
                    <a:lnTo>
                      <a:pt x="26" y="50"/>
                    </a:lnTo>
                    <a:lnTo>
                      <a:pt x="22" y="25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45320" y="483660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39800" y="1065240"/>
              <a:ext cx="7540560" cy="45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312920" y="1552320"/>
              <a:ext cx="4380120" cy="2269440"/>
              <a:chOff x="1312920" y="1552320"/>
              <a:chExt cx="4380120" cy="2269440"/>
            </a:xfrm>
          </p:grpSpPr>
          <p:sp>
            <p:nvSpPr>
              <p:cNvPr id="203" name=""/>
              <p:cNvSpPr/>
              <p:nvPr/>
            </p:nvSpPr>
            <p:spPr>
              <a:xfrm>
                <a:off x="1312920" y="1817280"/>
                <a:ext cx="203400" cy="1551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5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4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0516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380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3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8460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1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828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6"/>
                    </a:lnTo>
                    <a:lnTo>
                      <a:pt x="61" y="11"/>
                    </a:lnTo>
                    <a:lnTo>
                      <a:pt x="59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68720" y="155232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1"/>
                    </a:lnTo>
                    <a:lnTo>
                      <a:pt x="182" y="11"/>
                    </a:lnTo>
                    <a:lnTo>
                      <a:pt x="118" y="6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45592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3"/>
                    </a:lnTo>
                    <a:lnTo>
                      <a:pt x="191" y="43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48160" y="1620360"/>
                <a:ext cx="19980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3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3860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24360" y="1817280"/>
                <a:ext cx="201600" cy="15516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5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13360" y="1956960"/>
                <a:ext cx="204480" cy="174240"/>
              </a:xfrm>
              <a:custGeom>
                <a:avLst/>
                <a:gdLst/>
                <a:ahLst/>
                <a:rect l="l" t="t" r="r" b="b"/>
                <a:pathLst>
                  <a:path w="258" h="222">
                    <a:moveTo>
                      <a:pt x="15" y="0"/>
                    </a:moveTo>
                    <a:lnTo>
                      <a:pt x="0" y="21"/>
                    </a:lnTo>
                    <a:lnTo>
                      <a:pt x="57" y="68"/>
                    </a:lnTo>
                    <a:lnTo>
                      <a:pt x="121" y="117"/>
                    </a:lnTo>
                    <a:lnTo>
                      <a:pt x="184" y="168"/>
                    </a:lnTo>
                    <a:lnTo>
                      <a:pt x="191" y="157"/>
                    </a:lnTo>
                    <a:lnTo>
                      <a:pt x="182" y="168"/>
                    </a:lnTo>
                    <a:lnTo>
                      <a:pt x="241" y="222"/>
                    </a:lnTo>
                    <a:lnTo>
                      <a:pt x="258" y="203"/>
                    </a:lnTo>
                    <a:lnTo>
                      <a:pt x="199" y="149"/>
                    </a:lnTo>
                    <a:lnTo>
                      <a:pt x="199" y="147"/>
                    </a:lnTo>
                    <a:lnTo>
                      <a:pt x="137" y="97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05240" y="2117160"/>
                <a:ext cx="20340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6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94240" y="2295000"/>
                <a:ext cx="20304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8324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3"/>
                    </a:lnTo>
                    <a:lnTo>
                      <a:pt x="125" y="132"/>
                    </a:lnTo>
                    <a:lnTo>
                      <a:pt x="135" y="12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71880" y="2680560"/>
                <a:ext cx="20664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4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6412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60" h="257">
                    <a:moveTo>
                      <a:pt x="17" y="0"/>
                    </a:moveTo>
                    <a:lnTo>
                      <a:pt x="0" y="19"/>
                    </a:lnTo>
                    <a:lnTo>
                      <a:pt x="124" y="139"/>
                    </a:lnTo>
                    <a:lnTo>
                      <a:pt x="132" y="129"/>
                    </a:lnTo>
                    <a:lnTo>
                      <a:pt x="124" y="139"/>
                    </a:lnTo>
                    <a:lnTo>
                      <a:pt x="242" y="257"/>
                    </a:lnTo>
                    <a:lnTo>
                      <a:pt x="260" y="238"/>
                    </a:lnTo>
                    <a:lnTo>
                      <a:pt x="142" y="120"/>
                    </a:lnTo>
                    <a:lnTo>
                      <a:pt x="140" y="1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56360" y="3065040"/>
                <a:ext cx="199800" cy="193320"/>
              </a:xfrm>
              <a:custGeom>
                <a:avLst/>
                <a:gdLst/>
                <a:ahLst/>
                <a:rect l="l" t="t" r="r" b="b"/>
                <a:pathLst>
                  <a:path w="253" h="245">
                    <a:moveTo>
                      <a:pt x="18" y="0"/>
                    </a:moveTo>
                    <a:lnTo>
                      <a:pt x="0" y="19"/>
                    </a:lnTo>
                    <a:lnTo>
                      <a:pt x="116" y="136"/>
                    </a:lnTo>
                    <a:lnTo>
                      <a:pt x="116" y="136"/>
                    </a:lnTo>
                    <a:lnTo>
                      <a:pt x="177" y="191"/>
                    </a:lnTo>
                    <a:lnTo>
                      <a:pt x="236" y="245"/>
                    </a:lnTo>
                    <a:lnTo>
                      <a:pt x="253" y="227"/>
                    </a:lnTo>
                    <a:lnTo>
                      <a:pt x="194" y="173"/>
                    </a:lnTo>
                    <a:lnTo>
                      <a:pt x="133" y="117"/>
                    </a:lnTo>
                    <a:lnTo>
                      <a:pt x="125" y="125"/>
                    </a:lnTo>
                    <a:lnTo>
                      <a:pt x="135" y="1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43560" y="3244320"/>
                <a:ext cx="204840" cy="172800"/>
              </a:xfrm>
              <a:custGeom>
                <a:avLst/>
                <a:gdLst/>
                <a:ahLst/>
                <a:rect l="l" t="t" r="r" b="b"/>
                <a:pathLst>
                  <a:path w="258" h="217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7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0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37240" y="340164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0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7"/>
                    </a:lnTo>
                    <a:lnTo>
                      <a:pt x="64" y="58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26240" y="3539520"/>
                <a:ext cx="199800" cy="13140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116680" y="3654000"/>
                <a:ext cx="19692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07120" y="37350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5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00800" y="3785760"/>
                <a:ext cx="192240" cy="3600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123" y="38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V="1">
              <a:off x="1062000" y="1077840"/>
              <a:ext cx="1800" cy="292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2000" y="4005000"/>
              <a:ext cx="681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76440" y="2220840"/>
              <a:ext cx="1287360" cy="17856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70200" y="2409480"/>
              <a:ext cx="6714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48320" y="191592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04960" y="3503520"/>
              <a:ext cx="9763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81640" y="2296800"/>
              <a:ext cx="864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183120" y="1552320"/>
              <a:ext cx="4379760" cy="2269440"/>
              <a:chOff x="3183120" y="1552320"/>
              <a:chExt cx="4379760" cy="2269440"/>
            </a:xfrm>
          </p:grpSpPr>
          <p:sp>
            <p:nvSpPr>
              <p:cNvPr id="234" name=""/>
              <p:cNvSpPr/>
              <p:nvPr/>
            </p:nvSpPr>
            <p:spPr>
              <a:xfrm>
                <a:off x="7359840" y="1817280"/>
                <a:ext cx="203040" cy="15516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5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4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7408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8652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3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9464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3"/>
                    </a:lnTo>
                    <a:lnTo>
                      <a:pt x="189" y="43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1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0744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1"/>
                    </a:lnTo>
                    <a:lnTo>
                      <a:pt x="181" y="11"/>
                    </a:lnTo>
                    <a:lnTo>
                      <a:pt x="119" y="6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16640" y="1552320"/>
                <a:ext cx="19080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6"/>
                    </a:lnTo>
                    <a:lnTo>
                      <a:pt x="59" y="11"/>
                    </a:lnTo>
                    <a:lnTo>
                      <a:pt x="57" y="11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22960" y="1569600"/>
                <a:ext cx="19692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1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29280" y="1620360"/>
                <a:ext cx="20016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3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4064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51640" y="181728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5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57960" y="1956960"/>
                <a:ext cx="206280" cy="174240"/>
              </a:xfrm>
              <a:custGeom>
                <a:avLst/>
                <a:gdLst/>
                <a:ahLst/>
                <a:rect l="l" t="t" r="r" b="b"/>
                <a:pathLst>
                  <a:path w="260" h="222">
                    <a:moveTo>
                      <a:pt x="260" y="21"/>
                    </a:moveTo>
                    <a:lnTo>
                      <a:pt x="245" y="0"/>
                    </a:lnTo>
                    <a:lnTo>
                      <a:pt x="188" y="48"/>
                    </a:lnTo>
                    <a:lnTo>
                      <a:pt x="123" y="97"/>
                    </a:lnTo>
                    <a:lnTo>
                      <a:pt x="61" y="147"/>
                    </a:lnTo>
                    <a:lnTo>
                      <a:pt x="59" y="149"/>
                    </a:lnTo>
                    <a:lnTo>
                      <a:pt x="0" y="203"/>
                    </a:lnTo>
                    <a:lnTo>
                      <a:pt x="17" y="222"/>
                    </a:lnTo>
                    <a:lnTo>
                      <a:pt x="76" y="168"/>
                    </a:lnTo>
                    <a:lnTo>
                      <a:pt x="68" y="157"/>
                    </a:lnTo>
                    <a:lnTo>
                      <a:pt x="76" y="168"/>
                    </a:lnTo>
                    <a:lnTo>
                      <a:pt x="139" y="117"/>
                    </a:lnTo>
                    <a:lnTo>
                      <a:pt x="203" y="68"/>
                    </a:lnTo>
                    <a:lnTo>
                      <a:pt x="26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68960" y="2117160"/>
                <a:ext cx="20160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6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79960" y="2295000"/>
                <a:ext cx="20340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9132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3"/>
                    </a:lnTo>
                    <a:lnTo>
                      <a:pt x="130" y="132"/>
                    </a:lnTo>
                    <a:lnTo>
                      <a:pt x="122" y="123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97640" y="268056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4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0540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58" h="257">
                    <a:moveTo>
                      <a:pt x="258" y="19"/>
                    </a:moveTo>
                    <a:lnTo>
                      <a:pt x="241" y="0"/>
                    </a:lnTo>
                    <a:lnTo>
                      <a:pt x="118" y="120"/>
                    </a:lnTo>
                    <a:lnTo>
                      <a:pt x="118" y="120"/>
                    </a:lnTo>
                    <a:lnTo>
                      <a:pt x="0" y="238"/>
                    </a:lnTo>
                    <a:lnTo>
                      <a:pt x="18" y="257"/>
                    </a:lnTo>
                    <a:lnTo>
                      <a:pt x="137" y="139"/>
                    </a:lnTo>
                    <a:lnTo>
                      <a:pt x="126" y="129"/>
                    </a:lnTo>
                    <a:lnTo>
                      <a:pt x="135" y="139"/>
                    </a:lnTo>
                    <a:lnTo>
                      <a:pt x="2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18200" y="3065040"/>
                <a:ext cx="203040" cy="193320"/>
              </a:xfrm>
              <a:custGeom>
                <a:avLst/>
                <a:gdLst/>
                <a:ahLst/>
                <a:rect l="l" t="t" r="r" b="b"/>
                <a:pathLst>
                  <a:path w="255" h="245">
                    <a:moveTo>
                      <a:pt x="255" y="19"/>
                    </a:moveTo>
                    <a:lnTo>
                      <a:pt x="237" y="0"/>
                    </a:lnTo>
                    <a:lnTo>
                      <a:pt x="120" y="117"/>
                    </a:lnTo>
                    <a:lnTo>
                      <a:pt x="129" y="125"/>
                    </a:lnTo>
                    <a:lnTo>
                      <a:pt x="120" y="117"/>
                    </a:lnTo>
                    <a:lnTo>
                      <a:pt x="60" y="173"/>
                    </a:lnTo>
                    <a:lnTo>
                      <a:pt x="0" y="227"/>
                    </a:lnTo>
                    <a:lnTo>
                      <a:pt x="17" y="245"/>
                    </a:lnTo>
                    <a:lnTo>
                      <a:pt x="76" y="191"/>
                    </a:lnTo>
                    <a:lnTo>
                      <a:pt x="137" y="136"/>
                    </a:lnTo>
                    <a:lnTo>
                      <a:pt x="139" y="136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127760" y="3244320"/>
                <a:ext cx="204480" cy="172800"/>
              </a:xfrm>
              <a:custGeom>
                <a:avLst/>
                <a:gdLst/>
                <a:ahLst/>
                <a:rect l="l" t="t" r="r" b="b"/>
                <a:pathLst>
                  <a:path w="256" h="217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0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7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38760" y="3401640"/>
                <a:ext cx="201600" cy="1533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0"/>
                    </a:moveTo>
                    <a:lnTo>
                      <a:pt x="240" y="0"/>
                    </a:lnTo>
                    <a:lnTo>
                      <a:pt x="182" y="47"/>
                    </a:lnTo>
                    <a:lnTo>
                      <a:pt x="189" y="58"/>
                    </a:lnTo>
                    <a:lnTo>
                      <a:pt x="182" y="47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49760" y="3539520"/>
                <a:ext cx="198360" cy="13140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62560" y="3654000"/>
                <a:ext cx="19656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72120" y="3735000"/>
                <a:ext cx="1965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5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3"/>
                    </a:lnTo>
                    <a:lnTo>
                      <a:pt x="191" y="43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83120" y="3785760"/>
                <a:ext cx="190440" cy="3600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8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211480" y="4012920"/>
              <a:ext cx="2836800" cy="1393200"/>
              <a:chOff x="2211480" y="4012920"/>
              <a:chExt cx="2836800" cy="1393200"/>
            </a:xfrm>
          </p:grpSpPr>
          <p:sp>
            <p:nvSpPr>
              <p:cNvPr id="258" name=""/>
              <p:cNvSpPr/>
              <p:nvPr/>
            </p:nvSpPr>
            <p:spPr>
              <a:xfrm>
                <a:off x="2211480" y="4012920"/>
                <a:ext cx="2732040" cy="1349280"/>
              </a:xfrm>
              <a:custGeom>
                <a:avLst/>
                <a:gdLst/>
                <a:ahLst/>
                <a:rect l="l" t="t" r="r" b="b"/>
                <a:pathLst>
                  <a:path w="3444" h="1700">
                    <a:moveTo>
                      <a:pt x="21" y="0"/>
                    </a:moveTo>
                    <a:lnTo>
                      <a:pt x="0" y="0"/>
                    </a:lnTo>
                    <a:lnTo>
                      <a:pt x="2" y="38"/>
                    </a:lnTo>
                    <a:lnTo>
                      <a:pt x="5" y="77"/>
                    </a:lnTo>
                    <a:lnTo>
                      <a:pt x="12" y="116"/>
                    </a:lnTo>
                    <a:lnTo>
                      <a:pt x="21" y="153"/>
                    </a:lnTo>
                    <a:lnTo>
                      <a:pt x="31" y="192"/>
                    </a:lnTo>
                    <a:lnTo>
                      <a:pt x="44" y="231"/>
                    </a:lnTo>
                    <a:lnTo>
                      <a:pt x="59" y="270"/>
                    </a:lnTo>
                    <a:lnTo>
                      <a:pt x="61" y="276"/>
                    </a:lnTo>
                    <a:lnTo>
                      <a:pt x="80" y="315"/>
                    </a:lnTo>
                    <a:lnTo>
                      <a:pt x="98" y="352"/>
                    </a:lnTo>
                    <a:lnTo>
                      <a:pt x="120" y="391"/>
                    </a:lnTo>
                    <a:lnTo>
                      <a:pt x="146" y="428"/>
                    </a:lnTo>
                    <a:lnTo>
                      <a:pt x="171" y="466"/>
                    </a:lnTo>
                    <a:lnTo>
                      <a:pt x="200" y="503"/>
                    </a:lnTo>
                    <a:lnTo>
                      <a:pt x="230" y="540"/>
                    </a:lnTo>
                    <a:lnTo>
                      <a:pt x="262" y="577"/>
                    </a:lnTo>
                    <a:lnTo>
                      <a:pt x="296" y="612"/>
                    </a:lnTo>
                    <a:lnTo>
                      <a:pt x="331" y="650"/>
                    </a:lnTo>
                    <a:lnTo>
                      <a:pt x="368" y="685"/>
                    </a:lnTo>
                    <a:lnTo>
                      <a:pt x="409" y="720"/>
                    </a:lnTo>
                    <a:lnTo>
                      <a:pt x="449" y="756"/>
                    </a:lnTo>
                    <a:lnTo>
                      <a:pt x="492" y="791"/>
                    </a:lnTo>
                    <a:lnTo>
                      <a:pt x="537" y="825"/>
                    </a:lnTo>
                    <a:lnTo>
                      <a:pt x="632" y="893"/>
                    </a:lnTo>
                    <a:lnTo>
                      <a:pt x="635" y="894"/>
                    </a:lnTo>
                    <a:lnTo>
                      <a:pt x="735" y="962"/>
                    </a:lnTo>
                    <a:lnTo>
                      <a:pt x="841" y="1026"/>
                    </a:lnTo>
                    <a:lnTo>
                      <a:pt x="954" y="1087"/>
                    </a:lnTo>
                    <a:lnTo>
                      <a:pt x="1072" y="1148"/>
                    </a:lnTo>
                    <a:lnTo>
                      <a:pt x="1194" y="1205"/>
                    </a:lnTo>
                    <a:lnTo>
                      <a:pt x="1322" y="1261"/>
                    </a:lnTo>
                    <a:lnTo>
                      <a:pt x="1454" y="1313"/>
                    </a:lnTo>
                    <a:lnTo>
                      <a:pt x="1590" y="1364"/>
                    </a:lnTo>
                    <a:lnTo>
                      <a:pt x="1731" y="1411"/>
                    </a:lnTo>
                    <a:lnTo>
                      <a:pt x="1874" y="1455"/>
                    </a:lnTo>
                    <a:lnTo>
                      <a:pt x="2021" y="1495"/>
                    </a:lnTo>
                    <a:lnTo>
                      <a:pt x="2171" y="1534"/>
                    </a:lnTo>
                    <a:lnTo>
                      <a:pt x="2323" y="1568"/>
                    </a:lnTo>
                    <a:lnTo>
                      <a:pt x="2326" y="1568"/>
                    </a:lnTo>
                    <a:lnTo>
                      <a:pt x="2482" y="1600"/>
                    </a:lnTo>
                    <a:lnTo>
                      <a:pt x="2639" y="1627"/>
                    </a:lnTo>
                    <a:lnTo>
                      <a:pt x="2797" y="1649"/>
                    </a:lnTo>
                    <a:lnTo>
                      <a:pt x="2958" y="1667"/>
                    </a:lnTo>
                    <a:lnTo>
                      <a:pt x="3120" y="1683"/>
                    </a:lnTo>
                    <a:lnTo>
                      <a:pt x="3282" y="1693"/>
                    </a:lnTo>
                    <a:lnTo>
                      <a:pt x="3444" y="1700"/>
                    </a:lnTo>
                    <a:lnTo>
                      <a:pt x="3444" y="1679"/>
                    </a:lnTo>
                    <a:lnTo>
                      <a:pt x="3282" y="1672"/>
                    </a:lnTo>
                    <a:lnTo>
                      <a:pt x="3120" y="1662"/>
                    </a:lnTo>
                    <a:lnTo>
                      <a:pt x="2958" y="1647"/>
                    </a:lnTo>
                    <a:lnTo>
                      <a:pt x="2797" y="1629"/>
                    </a:lnTo>
                    <a:lnTo>
                      <a:pt x="2639" y="1607"/>
                    </a:lnTo>
                    <a:lnTo>
                      <a:pt x="2482" y="1580"/>
                    </a:lnTo>
                    <a:lnTo>
                      <a:pt x="2326" y="1548"/>
                    </a:lnTo>
                    <a:lnTo>
                      <a:pt x="2326" y="1558"/>
                    </a:lnTo>
                    <a:lnTo>
                      <a:pt x="2331" y="1549"/>
                    </a:lnTo>
                    <a:lnTo>
                      <a:pt x="2179" y="1516"/>
                    </a:lnTo>
                    <a:lnTo>
                      <a:pt x="2029" y="1477"/>
                    </a:lnTo>
                    <a:lnTo>
                      <a:pt x="1882" y="1436"/>
                    </a:lnTo>
                    <a:lnTo>
                      <a:pt x="1739" y="1392"/>
                    </a:lnTo>
                    <a:lnTo>
                      <a:pt x="1599" y="1345"/>
                    </a:lnTo>
                    <a:lnTo>
                      <a:pt x="1462" y="1294"/>
                    </a:lnTo>
                    <a:lnTo>
                      <a:pt x="1330" y="1242"/>
                    </a:lnTo>
                    <a:lnTo>
                      <a:pt x="1202" y="1186"/>
                    </a:lnTo>
                    <a:lnTo>
                      <a:pt x="1081" y="1129"/>
                    </a:lnTo>
                    <a:lnTo>
                      <a:pt x="962" y="1068"/>
                    </a:lnTo>
                    <a:lnTo>
                      <a:pt x="849" y="1007"/>
                    </a:lnTo>
                    <a:lnTo>
                      <a:pt x="743" y="943"/>
                    </a:lnTo>
                    <a:lnTo>
                      <a:pt x="643" y="876"/>
                    </a:lnTo>
                    <a:lnTo>
                      <a:pt x="638" y="886"/>
                    </a:lnTo>
                    <a:lnTo>
                      <a:pt x="647" y="877"/>
                    </a:lnTo>
                    <a:lnTo>
                      <a:pt x="552" y="810"/>
                    </a:lnTo>
                    <a:lnTo>
                      <a:pt x="507" y="776"/>
                    </a:lnTo>
                    <a:lnTo>
                      <a:pt x="465" y="741"/>
                    </a:lnTo>
                    <a:lnTo>
                      <a:pt x="424" y="705"/>
                    </a:lnTo>
                    <a:lnTo>
                      <a:pt x="384" y="670"/>
                    </a:lnTo>
                    <a:lnTo>
                      <a:pt x="346" y="634"/>
                    </a:lnTo>
                    <a:lnTo>
                      <a:pt x="311" y="597"/>
                    </a:lnTo>
                    <a:lnTo>
                      <a:pt x="277" y="562"/>
                    </a:lnTo>
                    <a:lnTo>
                      <a:pt x="245" y="525"/>
                    </a:lnTo>
                    <a:lnTo>
                      <a:pt x="215" y="487"/>
                    </a:lnTo>
                    <a:lnTo>
                      <a:pt x="186" y="450"/>
                    </a:lnTo>
                    <a:lnTo>
                      <a:pt x="161" y="413"/>
                    </a:lnTo>
                    <a:lnTo>
                      <a:pt x="135" y="376"/>
                    </a:lnTo>
                    <a:lnTo>
                      <a:pt x="113" y="337"/>
                    </a:lnTo>
                    <a:lnTo>
                      <a:pt x="95" y="300"/>
                    </a:lnTo>
                    <a:lnTo>
                      <a:pt x="76" y="261"/>
                    </a:lnTo>
                    <a:lnTo>
                      <a:pt x="70" y="270"/>
                    </a:lnTo>
                    <a:lnTo>
                      <a:pt x="80" y="270"/>
                    </a:lnTo>
                    <a:lnTo>
                      <a:pt x="65" y="231"/>
                    </a:lnTo>
                    <a:lnTo>
                      <a:pt x="51" y="192"/>
                    </a:lnTo>
                    <a:lnTo>
                      <a:pt x="41" y="153"/>
                    </a:lnTo>
                    <a:lnTo>
                      <a:pt x="32" y="116"/>
                    </a:lnTo>
                    <a:lnTo>
                      <a:pt x="26" y="77"/>
                    </a:lnTo>
                    <a:lnTo>
                      <a:pt x="22" y="3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45320" y="530316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211480" y="4012920"/>
              <a:ext cx="2836800" cy="1843920"/>
              <a:chOff x="2211480" y="4012920"/>
              <a:chExt cx="2836800" cy="1843920"/>
            </a:xfrm>
          </p:grpSpPr>
          <p:sp>
            <p:nvSpPr>
              <p:cNvPr id="261" name=""/>
              <p:cNvSpPr/>
              <p:nvPr/>
            </p:nvSpPr>
            <p:spPr>
              <a:xfrm>
                <a:off x="2211480" y="4012920"/>
                <a:ext cx="2732040" cy="1798200"/>
              </a:xfrm>
              <a:custGeom>
                <a:avLst/>
                <a:gdLst/>
                <a:ahLst/>
                <a:rect l="l" t="t" r="r" b="b"/>
                <a:pathLst>
                  <a:path w="3444" h="2265">
                    <a:moveTo>
                      <a:pt x="21" y="0"/>
                    </a:moveTo>
                    <a:lnTo>
                      <a:pt x="0" y="0"/>
                    </a:lnTo>
                    <a:lnTo>
                      <a:pt x="2" y="52"/>
                    </a:lnTo>
                    <a:lnTo>
                      <a:pt x="5" y="103"/>
                    </a:lnTo>
                    <a:lnTo>
                      <a:pt x="12" y="155"/>
                    </a:lnTo>
                    <a:lnTo>
                      <a:pt x="21" y="206"/>
                    </a:lnTo>
                    <a:lnTo>
                      <a:pt x="31" y="258"/>
                    </a:lnTo>
                    <a:lnTo>
                      <a:pt x="44" y="309"/>
                    </a:lnTo>
                    <a:lnTo>
                      <a:pt x="59" y="359"/>
                    </a:lnTo>
                    <a:lnTo>
                      <a:pt x="76" y="410"/>
                    </a:lnTo>
                    <a:lnTo>
                      <a:pt x="97" y="460"/>
                    </a:lnTo>
                    <a:lnTo>
                      <a:pt x="98" y="469"/>
                    </a:lnTo>
                    <a:lnTo>
                      <a:pt x="120" y="520"/>
                    </a:lnTo>
                    <a:lnTo>
                      <a:pt x="146" y="570"/>
                    </a:lnTo>
                    <a:lnTo>
                      <a:pt x="171" y="619"/>
                    </a:lnTo>
                    <a:lnTo>
                      <a:pt x="200" y="670"/>
                    </a:lnTo>
                    <a:lnTo>
                      <a:pt x="230" y="719"/>
                    </a:lnTo>
                    <a:lnTo>
                      <a:pt x="262" y="768"/>
                    </a:lnTo>
                    <a:lnTo>
                      <a:pt x="296" y="817"/>
                    </a:lnTo>
                    <a:lnTo>
                      <a:pt x="331" y="866"/>
                    </a:lnTo>
                    <a:lnTo>
                      <a:pt x="368" y="913"/>
                    </a:lnTo>
                    <a:lnTo>
                      <a:pt x="409" y="960"/>
                    </a:lnTo>
                    <a:lnTo>
                      <a:pt x="449" y="1007"/>
                    </a:lnTo>
                    <a:lnTo>
                      <a:pt x="492" y="1055"/>
                    </a:lnTo>
                    <a:lnTo>
                      <a:pt x="537" y="1100"/>
                    </a:lnTo>
                    <a:lnTo>
                      <a:pt x="632" y="1191"/>
                    </a:lnTo>
                    <a:lnTo>
                      <a:pt x="731" y="1279"/>
                    </a:lnTo>
                    <a:lnTo>
                      <a:pt x="838" y="1365"/>
                    </a:lnTo>
                    <a:lnTo>
                      <a:pt x="951" y="1448"/>
                    </a:lnTo>
                    <a:lnTo>
                      <a:pt x="1069" y="1527"/>
                    </a:lnTo>
                    <a:lnTo>
                      <a:pt x="1072" y="1529"/>
                    </a:lnTo>
                    <a:lnTo>
                      <a:pt x="1194" y="1607"/>
                    </a:lnTo>
                    <a:lnTo>
                      <a:pt x="1322" y="1681"/>
                    </a:lnTo>
                    <a:lnTo>
                      <a:pt x="1454" y="1752"/>
                    </a:lnTo>
                    <a:lnTo>
                      <a:pt x="1590" y="1818"/>
                    </a:lnTo>
                    <a:lnTo>
                      <a:pt x="1731" y="1880"/>
                    </a:lnTo>
                    <a:lnTo>
                      <a:pt x="1874" y="1939"/>
                    </a:lnTo>
                    <a:lnTo>
                      <a:pt x="2021" y="1995"/>
                    </a:lnTo>
                    <a:lnTo>
                      <a:pt x="2171" y="2044"/>
                    </a:lnTo>
                    <a:lnTo>
                      <a:pt x="2323" y="2089"/>
                    </a:lnTo>
                    <a:lnTo>
                      <a:pt x="2478" y="2132"/>
                    </a:lnTo>
                    <a:lnTo>
                      <a:pt x="2635" y="2167"/>
                    </a:lnTo>
                    <a:lnTo>
                      <a:pt x="2639" y="2167"/>
                    </a:lnTo>
                    <a:lnTo>
                      <a:pt x="2797" y="2197"/>
                    </a:lnTo>
                    <a:lnTo>
                      <a:pt x="2958" y="2223"/>
                    </a:lnTo>
                    <a:lnTo>
                      <a:pt x="3120" y="2243"/>
                    </a:lnTo>
                    <a:lnTo>
                      <a:pt x="3282" y="2257"/>
                    </a:lnTo>
                    <a:lnTo>
                      <a:pt x="3444" y="2265"/>
                    </a:lnTo>
                    <a:lnTo>
                      <a:pt x="3444" y="2245"/>
                    </a:lnTo>
                    <a:lnTo>
                      <a:pt x="3282" y="2236"/>
                    </a:lnTo>
                    <a:lnTo>
                      <a:pt x="3120" y="2223"/>
                    </a:lnTo>
                    <a:lnTo>
                      <a:pt x="2958" y="2203"/>
                    </a:lnTo>
                    <a:lnTo>
                      <a:pt x="2797" y="2177"/>
                    </a:lnTo>
                    <a:lnTo>
                      <a:pt x="2639" y="2147"/>
                    </a:lnTo>
                    <a:lnTo>
                      <a:pt x="2639" y="2157"/>
                    </a:lnTo>
                    <a:lnTo>
                      <a:pt x="2644" y="2149"/>
                    </a:lnTo>
                    <a:lnTo>
                      <a:pt x="2487" y="2113"/>
                    </a:lnTo>
                    <a:lnTo>
                      <a:pt x="2331" y="2071"/>
                    </a:lnTo>
                    <a:lnTo>
                      <a:pt x="2179" y="2025"/>
                    </a:lnTo>
                    <a:lnTo>
                      <a:pt x="2029" y="1976"/>
                    </a:lnTo>
                    <a:lnTo>
                      <a:pt x="1882" y="1921"/>
                    </a:lnTo>
                    <a:lnTo>
                      <a:pt x="1739" y="1862"/>
                    </a:lnTo>
                    <a:lnTo>
                      <a:pt x="1599" y="1799"/>
                    </a:lnTo>
                    <a:lnTo>
                      <a:pt x="1462" y="1733"/>
                    </a:lnTo>
                    <a:lnTo>
                      <a:pt x="1330" y="1662"/>
                    </a:lnTo>
                    <a:lnTo>
                      <a:pt x="1202" y="1588"/>
                    </a:lnTo>
                    <a:lnTo>
                      <a:pt x="1081" y="1510"/>
                    </a:lnTo>
                    <a:lnTo>
                      <a:pt x="1076" y="1521"/>
                    </a:lnTo>
                    <a:lnTo>
                      <a:pt x="1084" y="1512"/>
                    </a:lnTo>
                    <a:lnTo>
                      <a:pt x="966" y="1433"/>
                    </a:lnTo>
                    <a:lnTo>
                      <a:pt x="853" y="1350"/>
                    </a:lnTo>
                    <a:lnTo>
                      <a:pt x="746" y="1264"/>
                    </a:lnTo>
                    <a:lnTo>
                      <a:pt x="647" y="1176"/>
                    </a:lnTo>
                    <a:lnTo>
                      <a:pt x="552" y="1085"/>
                    </a:lnTo>
                    <a:lnTo>
                      <a:pt x="507" y="1039"/>
                    </a:lnTo>
                    <a:lnTo>
                      <a:pt x="465" y="992"/>
                    </a:lnTo>
                    <a:lnTo>
                      <a:pt x="424" y="945"/>
                    </a:lnTo>
                    <a:lnTo>
                      <a:pt x="384" y="898"/>
                    </a:lnTo>
                    <a:lnTo>
                      <a:pt x="346" y="850"/>
                    </a:lnTo>
                    <a:lnTo>
                      <a:pt x="311" y="801"/>
                    </a:lnTo>
                    <a:lnTo>
                      <a:pt x="277" y="752"/>
                    </a:lnTo>
                    <a:lnTo>
                      <a:pt x="245" y="704"/>
                    </a:lnTo>
                    <a:lnTo>
                      <a:pt x="215" y="655"/>
                    </a:lnTo>
                    <a:lnTo>
                      <a:pt x="186" y="604"/>
                    </a:lnTo>
                    <a:lnTo>
                      <a:pt x="161" y="555"/>
                    </a:lnTo>
                    <a:lnTo>
                      <a:pt x="135" y="504"/>
                    </a:lnTo>
                    <a:lnTo>
                      <a:pt x="113" y="454"/>
                    </a:lnTo>
                    <a:lnTo>
                      <a:pt x="107" y="460"/>
                    </a:lnTo>
                    <a:lnTo>
                      <a:pt x="117" y="460"/>
                    </a:lnTo>
                    <a:lnTo>
                      <a:pt x="97" y="410"/>
                    </a:lnTo>
                    <a:lnTo>
                      <a:pt x="80" y="359"/>
                    </a:lnTo>
                    <a:lnTo>
                      <a:pt x="65" y="309"/>
                    </a:lnTo>
                    <a:lnTo>
                      <a:pt x="51" y="258"/>
                    </a:lnTo>
                    <a:lnTo>
                      <a:pt x="41" y="206"/>
                    </a:lnTo>
                    <a:lnTo>
                      <a:pt x="32" y="155"/>
                    </a:lnTo>
                    <a:lnTo>
                      <a:pt x="26" y="103"/>
                    </a:lnTo>
                    <a:lnTo>
                      <a:pt x="22" y="5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945320" y="57542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4984920" y="4724280"/>
              <a:ext cx="1736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60160" y="4778280"/>
              <a:ext cx="168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Work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94280" y="5227560"/>
              <a:ext cx="18464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70240" y="5281560"/>
              <a:ext cx="179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hopp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05440" y="5678280"/>
              <a:ext cx="1963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80680" y="5730840"/>
              <a:ext cx="19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creation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78600" y="4970160"/>
              <a:ext cx="115884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44280" y="5024160"/>
              <a:ext cx="6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Loss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10160" y="525600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urba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83800" y="5487840"/>
              <a:ext cx="822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13800" y="4833720"/>
              <a:ext cx="264960" cy="1109160"/>
            </a:xfrm>
            <a:custGeom>
              <a:avLst/>
              <a:gdLst/>
              <a:ahLst/>
              <a:rect l="l" t="t" r="r" b="b"/>
              <a:pathLst>
                <a:path w="334" h="1397">
                  <a:moveTo>
                    <a:pt x="0" y="0"/>
                  </a:moveTo>
                  <a:lnTo>
                    <a:pt x="0" y="20"/>
                  </a:lnTo>
                  <a:lnTo>
                    <a:pt x="32" y="22"/>
                  </a:lnTo>
                  <a:lnTo>
                    <a:pt x="32" y="12"/>
                  </a:lnTo>
                  <a:lnTo>
                    <a:pt x="29" y="22"/>
                  </a:lnTo>
                  <a:lnTo>
                    <a:pt x="59" y="28"/>
                  </a:lnTo>
                  <a:lnTo>
                    <a:pt x="86" y="39"/>
                  </a:lnTo>
                  <a:lnTo>
                    <a:pt x="110" y="52"/>
                  </a:lnTo>
                  <a:lnTo>
                    <a:pt x="115" y="44"/>
                  </a:lnTo>
                  <a:lnTo>
                    <a:pt x="106" y="50"/>
                  </a:lnTo>
                  <a:lnTo>
                    <a:pt x="127" y="67"/>
                  </a:lnTo>
                  <a:lnTo>
                    <a:pt x="142" y="87"/>
                  </a:lnTo>
                  <a:lnTo>
                    <a:pt x="152" y="109"/>
                  </a:lnTo>
                  <a:lnTo>
                    <a:pt x="159" y="101"/>
                  </a:lnTo>
                  <a:lnTo>
                    <a:pt x="149" y="101"/>
                  </a:lnTo>
                  <a:lnTo>
                    <a:pt x="152" y="113"/>
                  </a:lnTo>
                  <a:lnTo>
                    <a:pt x="152" y="125"/>
                  </a:lnTo>
                  <a:lnTo>
                    <a:pt x="152" y="584"/>
                  </a:lnTo>
                  <a:lnTo>
                    <a:pt x="154" y="596"/>
                  </a:lnTo>
                  <a:lnTo>
                    <a:pt x="155" y="607"/>
                  </a:lnTo>
                  <a:lnTo>
                    <a:pt x="157" y="614"/>
                  </a:lnTo>
                  <a:lnTo>
                    <a:pt x="167" y="636"/>
                  </a:lnTo>
                  <a:lnTo>
                    <a:pt x="182" y="656"/>
                  </a:lnTo>
                  <a:lnTo>
                    <a:pt x="203" y="673"/>
                  </a:lnTo>
                  <a:lnTo>
                    <a:pt x="206" y="675"/>
                  </a:lnTo>
                  <a:lnTo>
                    <a:pt x="230" y="688"/>
                  </a:lnTo>
                  <a:lnTo>
                    <a:pt x="257" y="699"/>
                  </a:lnTo>
                  <a:lnTo>
                    <a:pt x="287" y="705"/>
                  </a:lnTo>
                  <a:lnTo>
                    <a:pt x="292" y="707"/>
                  </a:lnTo>
                  <a:lnTo>
                    <a:pt x="324" y="709"/>
                  </a:lnTo>
                  <a:lnTo>
                    <a:pt x="324" y="699"/>
                  </a:lnTo>
                  <a:lnTo>
                    <a:pt x="324" y="688"/>
                  </a:lnTo>
                  <a:lnTo>
                    <a:pt x="321" y="690"/>
                  </a:lnTo>
                  <a:lnTo>
                    <a:pt x="317" y="692"/>
                  </a:lnTo>
                  <a:lnTo>
                    <a:pt x="314" y="699"/>
                  </a:lnTo>
                  <a:lnTo>
                    <a:pt x="317" y="705"/>
                  </a:lnTo>
                  <a:lnTo>
                    <a:pt x="321" y="707"/>
                  </a:lnTo>
                  <a:lnTo>
                    <a:pt x="324" y="688"/>
                  </a:lnTo>
                  <a:lnTo>
                    <a:pt x="292" y="690"/>
                  </a:lnTo>
                  <a:lnTo>
                    <a:pt x="287" y="692"/>
                  </a:lnTo>
                  <a:lnTo>
                    <a:pt x="257" y="699"/>
                  </a:lnTo>
                  <a:lnTo>
                    <a:pt x="230" y="709"/>
                  </a:lnTo>
                  <a:lnTo>
                    <a:pt x="206" y="722"/>
                  </a:lnTo>
                  <a:lnTo>
                    <a:pt x="203" y="724"/>
                  </a:lnTo>
                  <a:lnTo>
                    <a:pt x="182" y="741"/>
                  </a:lnTo>
                  <a:lnTo>
                    <a:pt x="167" y="761"/>
                  </a:lnTo>
                  <a:lnTo>
                    <a:pt x="157" y="783"/>
                  </a:lnTo>
                  <a:lnTo>
                    <a:pt x="155" y="790"/>
                  </a:lnTo>
                  <a:lnTo>
                    <a:pt x="154" y="802"/>
                  </a:lnTo>
                  <a:lnTo>
                    <a:pt x="152" y="813"/>
                  </a:lnTo>
                  <a:lnTo>
                    <a:pt x="152" y="1273"/>
                  </a:lnTo>
                  <a:lnTo>
                    <a:pt x="152" y="1284"/>
                  </a:lnTo>
                  <a:lnTo>
                    <a:pt x="149" y="1296"/>
                  </a:lnTo>
                  <a:lnTo>
                    <a:pt x="159" y="1296"/>
                  </a:lnTo>
                  <a:lnTo>
                    <a:pt x="152" y="1288"/>
                  </a:lnTo>
                  <a:lnTo>
                    <a:pt x="142" y="1310"/>
                  </a:lnTo>
                  <a:lnTo>
                    <a:pt x="127" y="1330"/>
                  </a:lnTo>
                  <a:lnTo>
                    <a:pt x="106" y="1347"/>
                  </a:lnTo>
                  <a:lnTo>
                    <a:pt x="115" y="1354"/>
                  </a:lnTo>
                  <a:lnTo>
                    <a:pt x="110" y="1345"/>
                  </a:lnTo>
                  <a:lnTo>
                    <a:pt x="86" y="1359"/>
                  </a:lnTo>
                  <a:lnTo>
                    <a:pt x="59" y="1369"/>
                  </a:lnTo>
                  <a:lnTo>
                    <a:pt x="29" y="1375"/>
                  </a:lnTo>
                  <a:lnTo>
                    <a:pt x="32" y="1386"/>
                  </a:lnTo>
                  <a:lnTo>
                    <a:pt x="32" y="1375"/>
                  </a:lnTo>
                  <a:lnTo>
                    <a:pt x="0" y="1377"/>
                  </a:lnTo>
                  <a:lnTo>
                    <a:pt x="0" y="1397"/>
                  </a:lnTo>
                  <a:lnTo>
                    <a:pt x="32" y="1396"/>
                  </a:lnTo>
                  <a:lnTo>
                    <a:pt x="37" y="1394"/>
                  </a:lnTo>
                  <a:lnTo>
                    <a:pt x="68" y="1387"/>
                  </a:lnTo>
                  <a:lnTo>
                    <a:pt x="95" y="1377"/>
                  </a:lnTo>
                  <a:lnTo>
                    <a:pt x="118" y="1364"/>
                  </a:lnTo>
                  <a:lnTo>
                    <a:pt x="122" y="1362"/>
                  </a:lnTo>
                  <a:lnTo>
                    <a:pt x="142" y="1345"/>
                  </a:lnTo>
                  <a:lnTo>
                    <a:pt x="157" y="1325"/>
                  </a:lnTo>
                  <a:lnTo>
                    <a:pt x="167" y="1303"/>
                  </a:lnTo>
                  <a:lnTo>
                    <a:pt x="169" y="1296"/>
                  </a:lnTo>
                  <a:lnTo>
                    <a:pt x="169" y="1296"/>
                  </a:lnTo>
                  <a:lnTo>
                    <a:pt x="172" y="1284"/>
                  </a:lnTo>
                  <a:lnTo>
                    <a:pt x="172" y="1273"/>
                  </a:lnTo>
                  <a:lnTo>
                    <a:pt x="172" y="813"/>
                  </a:lnTo>
                  <a:lnTo>
                    <a:pt x="174" y="802"/>
                  </a:lnTo>
                  <a:lnTo>
                    <a:pt x="176" y="790"/>
                  </a:lnTo>
                  <a:lnTo>
                    <a:pt x="165" y="790"/>
                  </a:lnTo>
                  <a:lnTo>
                    <a:pt x="172" y="798"/>
                  </a:lnTo>
                  <a:lnTo>
                    <a:pt x="182" y="776"/>
                  </a:lnTo>
                  <a:lnTo>
                    <a:pt x="197" y="756"/>
                  </a:lnTo>
                  <a:lnTo>
                    <a:pt x="218" y="739"/>
                  </a:lnTo>
                  <a:lnTo>
                    <a:pt x="209" y="732"/>
                  </a:lnTo>
                  <a:lnTo>
                    <a:pt x="214" y="741"/>
                  </a:lnTo>
                  <a:lnTo>
                    <a:pt x="238" y="727"/>
                  </a:lnTo>
                  <a:lnTo>
                    <a:pt x="265" y="717"/>
                  </a:lnTo>
                  <a:lnTo>
                    <a:pt x="295" y="710"/>
                  </a:lnTo>
                  <a:lnTo>
                    <a:pt x="292" y="700"/>
                  </a:lnTo>
                  <a:lnTo>
                    <a:pt x="292" y="710"/>
                  </a:lnTo>
                  <a:lnTo>
                    <a:pt x="324" y="709"/>
                  </a:lnTo>
                  <a:lnTo>
                    <a:pt x="324" y="709"/>
                  </a:lnTo>
                  <a:lnTo>
                    <a:pt x="327" y="707"/>
                  </a:lnTo>
                  <a:lnTo>
                    <a:pt x="331" y="705"/>
                  </a:lnTo>
                  <a:lnTo>
                    <a:pt x="334" y="699"/>
                  </a:lnTo>
                  <a:lnTo>
                    <a:pt x="331" y="692"/>
                  </a:lnTo>
                  <a:lnTo>
                    <a:pt x="327" y="690"/>
                  </a:lnTo>
                  <a:lnTo>
                    <a:pt x="324" y="688"/>
                  </a:lnTo>
                  <a:lnTo>
                    <a:pt x="292" y="687"/>
                  </a:lnTo>
                  <a:lnTo>
                    <a:pt x="292" y="697"/>
                  </a:lnTo>
                  <a:lnTo>
                    <a:pt x="295" y="687"/>
                  </a:lnTo>
                  <a:lnTo>
                    <a:pt x="265" y="680"/>
                  </a:lnTo>
                  <a:lnTo>
                    <a:pt x="238" y="670"/>
                  </a:lnTo>
                  <a:lnTo>
                    <a:pt x="214" y="656"/>
                  </a:lnTo>
                  <a:lnTo>
                    <a:pt x="209" y="665"/>
                  </a:lnTo>
                  <a:lnTo>
                    <a:pt x="218" y="658"/>
                  </a:lnTo>
                  <a:lnTo>
                    <a:pt x="197" y="641"/>
                  </a:lnTo>
                  <a:lnTo>
                    <a:pt x="182" y="621"/>
                  </a:lnTo>
                  <a:lnTo>
                    <a:pt x="172" y="599"/>
                  </a:lnTo>
                  <a:lnTo>
                    <a:pt x="165" y="607"/>
                  </a:lnTo>
                  <a:lnTo>
                    <a:pt x="176" y="607"/>
                  </a:lnTo>
                  <a:lnTo>
                    <a:pt x="174" y="596"/>
                  </a:lnTo>
                  <a:lnTo>
                    <a:pt x="172" y="584"/>
                  </a:lnTo>
                  <a:lnTo>
                    <a:pt x="172" y="125"/>
                  </a:lnTo>
                  <a:lnTo>
                    <a:pt x="172" y="113"/>
                  </a:lnTo>
                  <a:lnTo>
                    <a:pt x="169" y="101"/>
                  </a:lnTo>
                  <a:lnTo>
                    <a:pt x="167" y="94"/>
                  </a:lnTo>
                  <a:lnTo>
                    <a:pt x="157" y="72"/>
                  </a:lnTo>
                  <a:lnTo>
                    <a:pt x="142" y="52"/>
                  </a:lnTo>
                  <a:lnTo>
                    <a:pt x="122" y="35"/>
                  </a:lnTo>
                  <a:lnTo>
                    <a:pt x="118" y="33"/>
                  </a:lnTo>
                  <a:lnTo>
                    <a:pt x="95" y="20"/>
                  </a:lnTo>
                  <a:lnTo>
                    <a:pt x="68" y="10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25720" y="1123920"/>
              <a:ext cx="2525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95920" y="1176120"/>
              <a:ext cx="23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ca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57680" y="1123920"/>
              <a:ext cx="3479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25720" y="1176120"/>
              <a:ext cx="330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public transpor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6021360" y="3041280"/>
              <a:ext cx="515880" cy="955080"/>
              <a:chOff x="6021360" y="3041280"/>
              <a:chExt cx="515880" cy="955080"/>
            </a:xfrm>
          </p:grpSpPr>
          <p:sp>
            <p:nvSpPr>
              <p:cNvPr id="279" name=""/>
              <p:cNvSpPr/>
              <p:nvPr/>
            </p:nvSpPr>
            <p:spPr>
              <a:xfrm>
                <a:off x="6070680" y="3863520"/>
                <a:ext cx="3168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10236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56240" y="3858840"/>
                <a:ext cx="3204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5480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21360" y="3298320"/>
                <a:ext cx="515880" cy="57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49880" y="304128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49880" y="310464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086520" y="3361680"/>
                <a:ext cx="387360" cy="2584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49960" y="371088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6699240" y="3363840"/>
              <a:ext cx="55728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1594080" y="3566880"/>
              <a:ext cx="61740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2225880" y="3562200"/>
              <a:ext cx="617400" cy="45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"/>
          <p:cNvSpPr/>
          <p:nvPr/>
        </p:nvSpPr>
        <p:spPr>
          <a:xfrm>
            <a:off x="6625080" y="2276640"/>
            <a:ext cx="25185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o chanc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blic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800" y="4383000"/>
            <a:ext cx="34160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ople to car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9120" y="6035760"/>
            <a:ext cx="7515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and at destinations cause ca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d air pollution in al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B055-22BE-40DB-8A28-736F846A1B8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93EAC-B424-4214-A82A-5661EEF6BD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1. Physical structure: Equity Car - P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692360" y="1398600"/>
            <a:ext cx="7063920" cy="4060800"/>
            <a:chOff x="1692360" y="1398600"/>
            <a:chExt cx="7063920" cy="4060800"/>
          </a:xfrm>
        </p:grpSpPr>
        <p:grpSp>
          <p:nvGrpSpPr>
            <p:cNvPr id="297" name=""/>
            <p:cNvGrpSpPr/>
            <p:nvPr/>
          </p:nvGrpSpPr>
          <p:grpSpPr>
            <a:xfrm>
              <a:off x="1942920" y="1968480"/>
              <a:ext cx="4379040" cy="2271600"/>
              <a:chOff x="1942920" y="1968480"/>
              <a:chExt cx="4379040" cy="2271600"/>
            </a:xfrm>
          </p:grpSpPr>
          <p:sp>
            <p:nvSpPr>
              <p:cNvPr id="298" name=""/>
              <p:cNvSpPr/>
              <p:nvPr/>
            </p:nvSpPr>
            <p:spPr>
              <a:xfrm>
                <a:off x="1942920" y="2233440"/>
                <a:ext cx="20268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6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5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444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2344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4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138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2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0756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7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98000" y="196848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2"/>
                    </a:lnTo>
                    <a:lnTo>
                      <a:pt x="182" y="12"/>
                    </a:lnTo>
                    <a:lnTo>
                      <a:pt x="118" y="7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8556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4"/>
                    </a:lnTo>
                    <a:lnTo>
                      <a:pt x="191" y="44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744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4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68240" y="2120760"/>
                <a:ext cx="196200" cy="13032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653640" y="223344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6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42640" y="2373120"/>
                <a:ext cx="204480" cy="174600"/>
              </a:xfrm>
              <a:custGeom>
                <a:avLst/>
                <a:gdLst/>
                <a:ahLst/>
                <a:rect l="l" t="t" r="r" b="b"/>
                <a:pathLst>
                  <a:path w="258" h="221">
                    <a:moveTo>
                      <a:pt x="15" y="0"/>
                    </a:moveTo>
                    <a:lnTo>
                      <a:pt x="0" y="20"/>
                    </a:lnTo>
                    <a:lnTo>
                      <a:pt x="57" y="67"/>
                    </a:lnTo>
                    <a:lnTo>
                      <a:pt x="121" y="116"/>
                    </a:lnTo>
                    <a:lnTo>
                      <a:pt x="184" y="167"/>
                    </a:lnTo>
                    <a:lnTo>
                      <a:pt x="191" y="157"/>
                    </a:lnTo>
                    <a:lnTo>
                      <a:pt x="182" y="167"/>
                    </a:lnTo>
                    <a:lnTo>
                      <a:pt x="241" y="221"/>
                    </a:lnTo>
                    <a:lnTo>
                      <a:pt x="258" y="202"/>
                    </a:lnTo>
                    <a:lnTo>
                      <a:pt x="199" y="148"/>
                    </a:lnTo>
                    <a:lnTo>
                      <a:pt x="199" y="146"/>
                    </a:lnTo>
                    <a:lnTo>
                      <a:pt x="137" y="96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34880" y="2533680"/>
                <a:ext cx="20268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7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2388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1252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4"/>
                    </a:lnTo>
                    <a:lnTo>
                      <a:pt x="125" y="132"/>
                    </a:lnTo>
                    <a:lnTo>
                      <a:pt x="135" y="12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01520" y="3097080"/>
                <a:ext cx="2059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5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9376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60" h="256">
                    <a:moveTo>
                      <a:pt x="17" y="0"/>
                    </a:moveTo>
                    <a:lnTo>
                      <a:pt x="0" y="18"/>
                    </a:lnTo>
                    <a:lnTo>
                      <a:pt x="124" y="138"/>
                    </a:lnTo>
                    <a:lnTo>
                      <a:pt x="132" y="128"/>
                    </a:lnTo>
                    <a:lnTo>
                      <a:pt x="124" y="138"/>
                    </a:lnTo>
                    <a:lnTo>
                      <a:pt x="242" y="256"/>
                    </a:lnTo>
                    <a:lnTo>
                      <a:pt x="260" y="238"/>
                    </a:lnTo>
                    <a:lnTo>
                      <a:pt x="142" y="119"/>
                    </a:lnTo>
                    <a:lnTo>
                      <a:pt x="140" y="1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85640" y="3481200"/>
                <a:ext cx="199800" cy="193680"/>
              </a:xfrm>
              <a:custGeom>
                <a:avLst/>
                <a:gdLst/>
                <a:ahLst/>
                <a:rect l="l" t="t" r="r" b="b"/>
                <a:pathLst>
                  <a:path w="253" h="244">
                    <a:moveTo>
                      <a:pt x="18" y="0"/>
                    </a:moveTo>
                    <a:lnTo>
                      <a:pt x="0" y="18"/>
                    </a:lnTo>
                    <a:lnTo>
                      <a:pt x="116" y="135"/>
                    </a:lnTo>
                    <a:lnTo>
                      <a:pt x="116" y="135"/>
                    </a:lnTo>
                    <a:lnTo>
                      <a:pt x="177" y="190"/>
                    </a:lnTo>
                    <a:lnTo>
                      <a:pt x="236" y="244"/>
                    </a:lnTo>
                    <a:lnTo>
                      <a:pt x="253" y="226"/>
                    </a:lnTo>
                    <a:lnTo>
                      <a:pt x="194" y="172"/>
                    </a:lnTo>
                    <a:lnTo>
                      <a:pt x="133" y="116"/>
                    </a:lnTo>
                    <a:lnTo>
                      <a:pt x="125" y="124"/>
                    </a:lnTo>
                    <a:lnTo>
                      <a:pt x="135" y="11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73200" y="3660480"/>
                <a:ext cx="204120" cy="173160"/>
              </a:xfrm>
              <a:custGeom>
                <a:avLst/>
                <a:gdLst/>
                <a:ahLst/>
                <a:rect l="l" t="t" r="r" b="b"/>
                <a:pathLst>
                  <a:path w="258" h="218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8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1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66880" y="381780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1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8"/>
                    </a:lnTo>
                    <a:lnTo>
                      <a:pt x="64" y="58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55520" y="3956040"/>
                <a:ext cx="199800" cy="13176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4596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36760" y="41511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6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30440" y="4201920"/>
                <a:ext cx="191520" cy="3816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123" y="39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flipV="1">
              <a:off x="1692360" y="1463400"/>
              <a:ext cx="1080" cy="2957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92360" y="4421160"/>
              <a:ext cx="6816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0200" y="2825640"/>
              <a:ext cx="15346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63240" y="2287440"/>
              <a:ext cx="128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Housing and ..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55720" y="3135240"/>
              <a:ext cx="1180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812760" y="1968480"/>
              <a:ext cx="4379400" cy="2271600"/>
              <a:chOff x="3812760" y="1968480"/>
              <a:chExt cx="4379400" cy="2271600"/>
            </a:xfrm>
          </p:grpSpPr>
          <p:sp>
            <p:nvSpPr>
              <p:cNvPr id="327" name=""/>
              <p:cNvSpPr/>
              <p:nvPr/>
            </p:nvSpPr>
            <p:spPr>
              <a:xfrm>
                <a:off x="7989120" y="223344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6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5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03360" y="2120760"/>
                <a:ext cx="196560" cy="13032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1616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4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4242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4"/>
                    </a:lnTo>
                    <a:lnTo>
                      <a:pt x="189" y="44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2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3672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2"/>
                    </a:lnTo>
                    <a:lnTo>
                      <a:pt x="181" y="12"/>
                    </a:lnTo>
                    <a:lnTo>
                      <a:pt x="119" y="7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04628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7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2600" y="19857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2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5892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4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6992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81280" y="223344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6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087600" y="2373120"/>
                <a:ext cx="205920" cy="174600"/>
              </a:xfrm>
              <a:custGeom>
                <a:avLst/>
                <a:gdLst/>
                <a:ahLst/>
                <a:rect l="l" t="t" r="r" b="b"/>
                <a:pathLst>
                  <a:path w="260" h="221">
                    <a:moveTo>
                      <a:pt x="260" y="20"/>
                    </a:moveTo>
                    <a:lnTo>
                      <a:pt x="245" y="0"/>
                    </a:lnTo>
                    <a:lnTo>
                      <a:pt x="188" y="47"/>
                    </a:lnTo>
                    <a:lnTo>
                      <a:pt x="123" y="96"/>
                    </a:lnTo>
                    <a:lnTo>
                      <a:pt x="61" y="146"/>
                    </a:lnTo>
                    <a:lnTo>
                      <a:pt x="59" y="148"/>
                    </a:lnTo>
                    <a:lnTo>
                      <a:pt x="0" y="202"/>
                    </a:lnTo>
                    <a:lnTo>
                      <a:pt x="17" y="221"/>
                    </a:lnTo>
                    <a:lnTo>
                      <a:pt x="76" y="167"/>
                    </a:lnTo>
                    <a:lnTo>
                      <a:pt x="68" y="157"/>
                    </a:lnTo>
                    <a:lnTo>
                      <a:pt x="76" y="167"/>
                    </a:lnTo>
                    <a:lnTo>
                      <a:pt x="139" y="116"/>
                    </a:lnTo>
                    <a:lnTo>
                      <a:pt x="203" y="67"/>
                    </a:lnTo>
                    <a:lnTo>
                      <a:pt x="26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98600" y="2533680"/>
                <a:ext cx="20124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7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0960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2060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4"/>
                    </a:lnTo>
                    <a:lnTo>
                      <a:pt x="130" y="132"/>
                    </a:lnTo>
                    <a:lnTo>
                      <a:pt x="122" y="124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26920" y="309708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5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3504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58" h="256">
                    <a:moveTo>
                      <a:pt x="258" y="18"/>
                    </a:moveTo>
                    <a:lnTo>
                      <a:pt x="241" y="0"/>
                    </a:lnTo>
                    <a:lnTo>
                      <a:pt x="118" y="119"/>
                    </a:lnTo>
                    <a:lnTo>
                      <a:pt x="118" y="119"/>
                    </a:lnTo>
                    <a:lnTo>
                      <a:pt x="0" y="238"/>
                    </a:lnTo>
                    <a:lnTo>
                      <a:pt x="18" y="256"/>
                    </a:lnTo>
                    <a:lnTo>
                      <a:pt x="137" y="138"/>
                    </a:lnTo>
                    <a:lnTo>
                      <a:pt x="126" y="128"/>
                    </a:lnTo>
                    <a:lnTo>
                      <a:pt x="135" y="138"/>
                    </a:lnTo>
                    <a:lnTo>
                      <a:pt x="25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47480" y="3481200"/>
                <a:ext cx="203040" cy="193680"/>
              </a:xfrm>
              <a:custGeom>
                <a:avLst/>
                <a:gdLst/>
                <a:ahLst/>
                <a:rect l="l" t="t" r="r" b="b"/>
                <a:pathLst>
                  <a:path w="255" h="244">
                    <a:moveTo>
                      <a:pt x="255" y="18"/>
                    </a:moveTo>
                    <a:lnTo>
                      <a:pt x="237" y="0"/>
                    </a:lnTo>
                    <a:lnTo>
                      <a:pt x="120" y="116"/>
                    </a:lnTo>
                    <a:lnTo>
                      <a:pt x="129" y="124"/>
                    </a:lnTo>
                    <a:lnTo>
                      <a:pt x="120" y="116"/>
                    </a:lnTo>
                    <a:lnTo>
                      <a:pt x="60" y="172"/>
                    </a:lnTo>
                    <a:lnTo>
                      <a:pt x="0" y="226"/>
                    </a:lnTo>
                    <a:lnTo>
                      <a:pt x="17" y="244"/>
                    </a:lnTo>
                    <a:lnTo>
                      <a:pt x="76" y="190"/>
                    </a:lnTo>
                    <a:lnTo>
                      <a:pt x="137" y="135"/>
                    </a:lnTo>
                    <a:lnTo>
                      <a:pt x="139" y="135"/>
                    </a:lnTo>
                    <a:lnTo>
                      <a:pt x="25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7040" y="3660480"/>
                <a:ext cx="204480" cy="173160"/>
              </a:xfrm>
              <a:custGeom>
                <a:avLst/>
                <a:gdLst/>
                <a:ahLst/>
                <a:rect l="l" t="t" r="r" b="b"/>
                <a:pathLst>
                  <a:path w="256" h="218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1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8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68040" y="381780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1"/>
                    </a:moveTo>
                    <a:lnTo>
                      <a:pt x="240" y="0"/>
                    </a:lnTo>
                    <a:lnTo>
                      <a:pt x="182" y="48"/>
                    </a:lnTo>
                    <a:lnTo>
                      <a:pt x="189" y="58"/>
                    </a:lnTo>
                    <a:lnTo>
                      <a:pt x="182" y="48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79400" y="3956040"/>
                <a:ext cx="198000" cy="13176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19184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001400" y="41511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6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4"/>
                    </a:lnTo>
                    <a:lnTo>
                      <a:pt x="191" y="44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12760" y="4201920"/>
                <a:ext cx="190440" cy="3816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9"/>
                    </a:lnTo>
                    <a:lnTo>
                      <a:pt x="180" y="34"/>
                    </a:lnTo>
                    <a:lnTo>
                      <a:pt x="180" y="34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1692360" y="1398600"/>
              <a:ext cx="25729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65600" y="1452240"/>
              <a:ext cx="1727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ür Aktivität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34960" y="16840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94000" y="1398600"/>
              <a:ext cx="25142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71200" y="1452240"/>
              <a:ext cx="200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 fü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89120" y="1684080"/>
              <a:ext cx="256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Öffentlichen Verkehr und Au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1240" y="4421160"/>
              <a:ext cx="2058480" cy="1030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4773600"/>
              <a:ext cx="14428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03920" y="4573440"/>
              <a:ext cx="174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 in Garag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57520" y="2973240"/>
              <a:ext cx="19144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34200" y="3027240"/>
              <a:ext cx="83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T - Sto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87880" y="3649680"/>
              <a:ext cx="306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02520" y="370044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39560" y="2635200"/>
              <a:ext cx="1287360" cy="1785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2840" y="2890800"/>
              <a:ext cx="56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wor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81400" y="3122640"/>
              <a:ext cx="99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shopping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80320" y="3354120"/>
              <a:ext cx="1093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leisure etc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575040" y="3458880"/>
              <a:ext cx="515520" cy="955800"/>
              <a:chOff x="6575040" y="3458880"/>
              <a:chExt cx="515520" cy="955800"/>
            </a:xfrm>
          </p:grpSpPr>
          <p:sp>
            <p:nvSpPr>
              <p:cNvPr id="368" name=""/>
              <p:cNvSpPr/>
              <p:nvPr/>
            </p:nvSpPr>
            <p:spPr>
              <a:xfrm>
                <a:off x="6624000" y="4281480"/>
                <a:ext cx="3132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6553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09560" y="4276800"/>
                <a:ext cx="3168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0081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75040" y="3716280"/>
                <a:ext cx="515520" cy="57924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03200" y="345888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03200" y="352260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39840" y="3779640"/>
                <a:ext cx="387000" cy="25884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3280" y="4128840"/>
                <a:ext cx="64800" cy="651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7252920" y="3781440"/>
              <a:ext cx="5569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6392520" y="5005080"/>
              <a:ext cx="61740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3"/>
            <a:stretch/>
          </p:blipFill>
          <p:spPr>
            <a:xfrm>
              <a:off x="7024320" y="5000400"/>
              <a:ext cx="61740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533160" y="725400"/>
            <a:ext cx="82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nimum Precondition for a liveable city with clean a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/>
          <p:nvPr/>
        </p:nvCxnSpPr>
        <p:spPr>
          <a:xfrm flipH="1" rot="16200000">
            <a:off x="4091760" y="3183480"/>
            <a:ext cx="853200" cy="3312000"/>
          </a:xfrm>
          <a:prstGeom prst="curvedConnector2">
            <a:avLst/>
          </a:prstGeom>
          <a:ln w="76320">
            <a:solidFill>
              <a:srgbClr val="ff3300"/>
            </a:solidFill>
            <a:miter/>
            <a:tailEnd len="lg" type="triangle" w="med"/>
          </a:ln>
        </p:spPr>
      </p:cxnSp>
      <p:sp>
        <p:nvSpPr>
          <p:cNvPr id="382" name=""/>
          <p:cNvSpPr/>
          <p:nvPr/>
        </p:nvSpPr>
        <p:spPr>
          <a:xfrm>
            <a:off x="330480" y="5610240"/>
            <a:ext cx="73512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Equidistance to the Parking Place 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Public Transport Stop (PP = 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12440" y="3716280"/>
            <a:ext cx="46461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C l e a n  A i r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3551-CC93-4343-9B4A-6D6DEEC9EEE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393A6-1403-4974-BEFB-459C627C18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3984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3800" y="3429000"/>
            <a:ext cx="77367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000000"/>
                </a:solidFill>
                <a:latin typeface="Times New Roman"/>
              </a:rPr>
              <a:t>Thanks for your kind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D6F7-4386-41C0-9727-57C29DC1454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D268A-3F5B-43E5-9B2D-0E59A74834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..the only mode we are really familiar with</a:t>
            </a:r>
            <a:br>
              <a:rPr sz="2000"/>
            </a:b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 Man: 6 – 8  Million  years as a biped on the glob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480" y="620640"/>
            <a:ext cx="9077040" cy="597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3791-B90B-49A0-BA28-E91785EBD1D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CEB7C-FFC3-48A6-AF5A-3F26F89C2B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399"/>
                </a:solidFill>
                <a:latin typeface="Arial"/>
              </a:rPr>
              <a:t>Evolution of travel speed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134136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6165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1557360"/>
            <a:ext cx="7777440" cy="4537080"/>
          </a:xfrm>
          <a:custGeom>
            <a:avLst/>
            <a:gdLst/>
            <a:ahLst/>
            <a:rect l="l" t="t" r="r" b="b"/>
            <a:pathLst>
              <a:path w="4899" h="2858">
                <a:moveTo>
                  <a:pt x="0" y="2858"/>
                </a:moveTo>
                <a:lnTo>
                  <a:pt x="4899" y="2858"/>
                </a:lnTo>
                <a:lnTo>
                  <a:pt x="4899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040" y="618480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6 – 8 Million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76560" y="611352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20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7320" y="785880"/>
            <a:ext cx="59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Fascination by escalating speed in a 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of history of manking – and effortless 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484280"/>
            <a:ext cx="7777080" cy="4680000"/>
          </a:xfrm>
          <a:custGeom>
            <a:avLst/>
            <a:gdLst/>
            <a:ahLst/>
            <a:rect l="l" t="t" r="r" b="b"/>
            <a:pathLst>
              <a:path w="4264" h="2948">
                <a:moveTo>
                  <a:pt x="0" y="2903"/>
                </a:moveTo>
                <a:lnTo>
                  <a:pt x="4082" y="2903"/>
                </a:lnTo>
                <a:lnTo>
                  <a:pt x="4082" y="0"/>
                </a:lnTo>
                <a:lnTo>
                  <a:pt x="4264" y="0"/>
                </a:lnTo>
                <a:lnTo>
                  <a:pt x="4264" y="2948"/>
                </a:lnTo>
                <a:lnTo>
                  <a:pt x="4082" y="2903"/>
                </a:lnTo>
              </a:path>
            </a:pathLst>
          </a:cu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1280" y="2205000"/>
            <a:ext cx="50544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This was to much for all profess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isciplines the politicians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Soc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1809-B72E-458C-898C-CB479B4125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EE533-F312-462D-98DC-8B5278D5E8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E165-CB3B-4298-BC35-AD1834AC8AC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DAE77-C00F-4B56-92C3-A58B7DF600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6BB6-EDEE-4C96-A792-4FAE4D94873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38A34-075D-4515-BF28-1E0456DBE7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6735-2D50-47A0-A430-94A318C6993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F428F-7EB4-4764-8BA4-A03E8AB4B3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157480"/>
          <a:ext cx="449568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57480"/>
                    <a:ext cx="44956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19640" y="1557360"/>
            <a:ext cx="29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M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Di * V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82960" y="3068640"/>
            <a:ext cx="70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Mi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Di * V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712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0" y="0"/>
                <a:ext cx="4114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D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95280" y="4510080"/>
            <a:ext cx="8569440" cy="138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FCEC-D415-4411-B5CF-B496FF67634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A6CE21-A09B-4F1F-B8AD-C0A3A4CE11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793800"/>
            <a:ext cx="8640720" cy="1393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50760" y="294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0" r="36946" b="0"/>
          <a:stretch/>
        </p:blipFill>
        <p:spPr>
          <a:xfrm>
            <a:off x="684360" y="3233880"/>
            <a:ext cx="7775280" cy="221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1477-1D4F-4E23-AE62-46BE5A95BBC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B8EBB-550A-4D4B-8E4C-9CE067A5ED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602136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6093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1280" y="4005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003640" y="407628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197820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35772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3429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11280" y="1341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003640" y="141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12400" y="6021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53120" y="61657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631800" y="222084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3773880" y="22075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-171720" y="46418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6256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3928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149360" y="47865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4653000"/>
            <a:ext cx="2592360" cy="1152360"/>
          </a:xfrm>
          <a:custGeom>
            <a:avLst/>
            <a:gdLst/>
            <a:ahLst/>
            <a:rect l="l" t="t" r="r" b="b"/>
            <a:pathLst>
              <a:path w="1633" h="726">
                <a:moveTo>
                  <a:pt x="0" y="726"/>
                </a:moveTo>
                <a:cubicBezTo>
                  <a:pt x="363" y="605"/>
                  <a:pt x="726" y="484"/>
                  <a:pt x="998" y="363"/>
                </a:cubicBezTo>
                <a:cubicBezTo>
                  <a:pt x="1270" y="242"/>
                  <a:pt x="1451" y="121"/>
                  <a:pt x="163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4365720"/>
            <a:ext cx="2521080" cy="1536480"/>
          </a:xfrm>
          <a:custGeom>
            <a:avLst/>
            <a:gdLst/>
            <a:ahLst/>
            <a:rect l="l" t="t" r="r" b="b"/>
            <a:pathLst>
              <a:path w="1588" h="968">
                <a:moveTo>
                  <a:pt x="0" y="0"/>
                </a:moveTo>
                <a:cubicBezTo>
                  <a:pt x="79" y="219"/>
                  <a:pt x="159" y="438"/>
                  <a:pt x="318" y="589"/>
                </a:cubicBezTo>
                <a:cubicBezTo>
                  <a:pt x="477" y="740"/>
                  <a:pt x="741" y="846"/>
                  <a:pt x="953" y="907"/>
                </a:cubicBezTo>
                <a:cubicBezTo>
                  <a:pt x="1165" y="968"/>
                  <a:pt x="1376" y="960"/>
                  <a:pt x="1588" y="95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4076640"/>
            <a:ext cx="2376360" cy="1812960"/>
          </a:xfrm>
          <a:custGeom>
            <a:avLst/>
            <a:gdLst/>
            <a:ahLst/>
            <a:rect l="l" t="t" r="r" b="b"/>
            <a:pathLst>
              <a:path w="1497" h="1142">
                <a:moveTo>
                  <a:pt x="0" y="862"/>
                </a:moveTo>
                <a:cubicBezTo>
                  <a:pt x="189" y="960"/>
                  <a:pt x="379" y="1059"/>
                  <a:pt x="545" y="1089"/>
                </a:cubicBezTo>
                <a:cubicBezTo>
                  <a:pt x="711" y="1119"/>
                  <a:pt x="870" y="1142"/>
                  <a:pt x="998" y="1044"/>
                </a:cubicBezTo>
                <a:cubicBezTo>
                  <a:pt x="1126" y="946"/>
                  <a:pt x="1233" y="673"/>
                  <a:pt x="1316" y="499"/>
                </a:cubicBezTo>
                <a:cubicBezTo>
                  <a:pt x="1399" y="325"/>
                  <a:pt x="1448" y="162"/>
                  <a:pt x="1497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148428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162864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8200" y="3716280"/>
            <a:ext cx="66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r of the Transport SystemTechnic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8400" y="765000"/>
            <a:ext cx="5444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ur of the System (Societal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3C4C-0E77-435C-B8DD-BCF0B8C3111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213CF-5091-4B2D-8120-A6C11DB2D3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5:39:18Z</dcterms:created>
  <dc:creator>E231 TUWIEN</dc:creator>
  <dc:description/>
  <dc:language>en-US</dc:language>
  <cp:lastModifiedBy>OIST</cp:lastModifiedBy>
  <dcterms:modified xsi:type="dcterms:W3CDTF">2004-11-30T11:08:49Z</dcterms:modified>
  <cp:revision>11</cp:revision>
  <dc:subject/>
  <dc:title>PowerPoint-Präsentation</dc:title>
</cp:coreProperties>
</file>